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D93-3248-425D-994C-BB8D165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80E-5877-41BF-ACA1-71BCF575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22E39-8A89-49E1-8A8B-5BD2BB17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F8387-5158-43A1-B1DE-94EB33F1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7435C-E7E4-4555-800E-B40153C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89C0D-97A1-4ED4-B8C7-65C13DC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F65C3-2057-4BE2-A2CC-B7C0C5F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721EA-4799-4338-AD98-857A0AF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5B47-8247-463C-94FD-38D4784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1A7EB-171F-4153-BD33-4B678B63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F0A1B-C5EB-4433-9C8D-1E1F7B14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1ADC5-5AF2-4EB7-9B50-6F02C95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416-443B-4FD8-A3E3-5FBF8284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A2B74-0DDE-4256-B9DD-6EE548A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DFF07-D8DD-4C28-A255-6AB26E0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7E2E-8BA9-4F7E-9CB2-ECBC01F3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EB95D-E95C-444A-91C4-6234DDFE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748DF-F02F-40A6-8DF8-A978369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3BAD-0C9C-46F4-BDDF-E29D1BD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DE8AF-F975-46CD-A5ED-9AC8815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C17EA-3D03-4A38-BDFA-669DF51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1A37-4A13-433F-A847-24CBD858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3CEF-4F8F-479E-9C92-3143450F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6DB-BD5B-4D5C-9197-33C1DCDD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F18E6-E0F3-4F10-ADDC-2E63D754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318DC-9886-4254-8D17-097FB330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39AA-8021-4AFF-8C19-DCEFBDA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C90E-5443-4C01-B298-37EC80D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64351-CF28-47FA-A34F-5EACBF3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9505-4B0E-47AE-8ECC-78319CE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F2908-95F6-45E5-9766-66D73380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15DA6-87C8-4E4B-B9BD-16CDECB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A804-67CB-4206-9805-17F6CD8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5044C-2C46-4BB9-B6E4-4F699FF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E61-CFA3-4510-9B94-258FFB97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76439-CAEB-4560-B934-E80E4B2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46848-FA1C-431D-AF38-B3688AC6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4089-00CC-44AC-A431-62C0837A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334-6B1B-4184-ABE6-91181DE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374-8680-4777-99BD-20526B6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86BE-EC8D-4AC0-BA92-7D7CE285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76E6-8674-4470-A9AC-255AEFE2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7A6C-AB2F-4A65-A7A3-4C48CA8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E93-39F6-40E5-A459-C4CA0B3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64C-205E-4178-895C-ECB36465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2A6C-72C9-4B92-9D50-6C4CCF0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776-16F3-415E-8D2C-E1A28E5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722-2E61-4BF7-AD54-89A05CE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0F1-3125-4FA9-866E-CA564F64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951-2926-4968-BC0A-FDBDE3A7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9AD3-CC2A-45D0-91E5-09494E1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E788-A1C6-4571-BD97-7133891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6D12-32E5-4E13-AEE5-D3A08C5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BE7B-7A8D-4AAD-9446-BC74366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3FDA-7B27-4860-BA7E-9C52BD3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7AD-82D7-4A7D-BA29-715B25E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EB07-7329-4222-9C82-6B54AD5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FD20-40BE-4151-A7E7-D02A509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5D92-CD86-455B-A72D-756B95D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D0ED-F514-41D8-86AF-0458142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03D2-AA34-47F3-87C8-E5555A21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CE90-D0E8-4628-BAB6-61CCAFA5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894B-BC81-4257-BD1F-412249A3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E9778-7B75-4BDF-B785-9E8E6320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2356B-CFB3-4295-83AF-4189492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19527-E025-4710-AB0B-9B170292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6C-B726-48A4-94BC-028CF85A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E5F51-BAA0-4529-B7C9-543B8CB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E0FF8-F0BF-4359-BC3A-539CC753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0E2D2-C87C-42A5-8AF6-1EF499A3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4D9F0-DC94-428D-9E85-9A7ECBA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5FA81-BF57-4F8B-B8B7-742450D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A9CD1-2F6E-4340-857C-7584711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8A6CB-0A76-4FEC-B16A-226016C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2D7DB-02EF-4428-A0BE-55929B2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8B9D7-21ED-4BD9-8C5A-3D5BEF3E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895F-0222-418E-97A2-C2F50FD2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C45-B190-423C-BD3A-75D628EF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EF0F-C172-45AA-B31D-0C69E43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DDFC-8BAC-47BB-B93B-8F2E5CFB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795C-91B0-4BA4-BDA9-B8055D6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5E63-E304-4AC7-8F91-CD72A9C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C975-2049-4199-9FEA-0C88573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A8EF-6838-4677-8078-8B5556D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7C4D-967D-4F14-8C2D-A6C98F7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EDF0-EC3A-4402-95CD-4B4786E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5AFC-0CD8-4CAE-AD02-CAB4219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9852-CB49-42C4-AE0C-5C7F23A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264-3EEA-45EE-9872-0BF67DC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D5D04-BDB5-42DE-A887-A76D9E6E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CB0C-C9AC-4A5E-AD99-9D873DCB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7E0E-B987-4FA0-911B-6F177B1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2B0F-B756-47C5-A575-92C4B26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500C-D18E-4FC6-98E0-0B65835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A50A-C227-44D5-B7F8-9175E9EA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D604-A336-4A6E-A48C-B4091F3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C330-2E6C-465D-9E8B-31C8F3F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8C05-8868-47D5-A7BF-6E05F11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4C52-203E-4F54-9E4F-D6D7E00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446-F18B-4E64-AE55-E6EAFB4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5115-FFD1-49FE-87FA-8FF634A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E3F5-B961-4913-B54C-32B45B82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4AF7-E6D8-4577-8F1C-92D7702C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548A2-EDDE-4773-8A73-07A18CC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2B85-7D4E-42B3-97BC-131FA3F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98C2-B6B4-402C-AF2F-638D4E7B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B7E5-54D1-4634-9A04-B908D32D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8434-6853-427C-8BAB-723CCC6F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3CD0A-966B-4F8A-9852-C99DC7F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1E10E-AC71-4D77-BE27-31AB48E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B24-D440-425C-9CE1-D511DD0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F378-0A1C-4A1A-A782-23549D6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4000-9E9B-498D-904A-E05029E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DBA5-1BE4-4F3F-A4E3-C59B0D0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B0F2D-6E99-42D5-8D6F-9AADB139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FEB4-7ACE-4D14-83D8-4B67C60B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2393-F19D-4F75-8A83-D335D19A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070F-11FE-4CBE-A18C-3D7E586E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473B-CA2E-40B3-8A8C-07C6435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285E-E2CD-4E66-A8A6-F43EB306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CF59F-3615-468A-8062-A68806E5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477-2EB5-4778-B188-D28BDB5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9D466-6BED-4095-905E-BB2CF848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D76F-4ACE-4B66-9FBE-933887E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4D2A-5632-4CF0-9356-6C9B67C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12F4-2C75-4158-8B6B-722BF04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C2984-D55B-4237-83FD-84C96D5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5720-0E26-48B5-A5AB-17177D03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4CA0-7C1B-44D3-8227-7054DF82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CC30-B037-49FD-A522-ECCB058C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F971E-348A-46BD-80A3-9CBA554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8CC3-DE38-4366-A050-26FA44A5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341-573F-4F6D-9763-278FD0D4EB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D18-ECF1-4430-85AE-27B682B5D3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1DE-1E66-4569-9ADD-9ADBCE338B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3938-C5E7-4F40-80CD-29CB3FF3E8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1428-E6BF-4A58-AD3C-ACEB1E134C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24C-B7F7-4387-B002-CAE3F48E75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87D-86F2-4AC7-A1C4-D84F97CC58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9E4-F5AE-4F6D-9330-4E524AAC3C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0EC7-BEEA-4FFD-A7E0-29E6FD546A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23D-D55F-47CC-A501-A29F470E49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CB84-C302-492F-B1A7-ED1B2ACE77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추정가격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 의 경쟁입찰공사 평가기준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전문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설비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문화재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지하수개발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기타다른법령에의한 공사는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억원미만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28760" y="1054080"/>
            <a:ext cx="778644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에서는  다음과같이 시공경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 접근성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총수행능력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4.8/5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5/1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산식은 다음과 같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71680" y="3500280"/>
          <a:ext cx="5929200" cy="500400"/>
        </p:xfrm>
        <a:graphic>
          <a:graphicData uri="http://schemas.openxmlformats.org/drawingml/2006/table">
            <a:tbl>
              <a:tblPr/>
              <a:tblGrid>
                <a:gridCol w="949320"/>
                <a:gridCol w="99720"/>
                <a:gridCol w="220680"/>
                <a:gridCol w="971640"/>
                <a:gridCol w="209520"/>
                <a:gridCol w="1085760"/>
                <a:gridCol w="801720"/>
                <a:gridCol w="1590840"/>
              </a:tblGrid>
              <a:tr h="2509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2" name="TextBox 7"/>
          <p:cNvSpPr/>
          <p:nvPr/>
        </p:nvSpPr>
        <p:spPr>
          <a:xfrm>
            <a:off x="428760" y="414324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-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이 예정가격이하로서 예정가격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분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8.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인 경우의 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저평점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으로 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28760" y="728640"/>
            <a:ext cx="77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지방자치단체적격기준에서은 모든 규모의 공사에 시공경험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발표된 적격기준이전에는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은 시공평가를 하지 않았으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모든 공사에 시공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에 따라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 또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냐 차이지 큰 어려움은 없다고 생각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과 같이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또는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에 따라 등급의 차이가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500040" y="4214880"/>
          <a:ext cx="5667480" cy="104760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428760" y="306000"/>
            <a:ext cx="77864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실적인정기간 평가방법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는  일반적으로 관련협회에 신고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를 하는데 귀사가 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준공된 공사가 있을경우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된 실적도 포함시켜서 평가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를 들어보면  가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+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 으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받을 수 있다는 내용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미만 평가시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까지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이상 평가시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반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또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평가시에는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실적이 발표되기 이전공사까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표를 하면  또다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 준공된 실적으로 평가하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렇다면 현재 날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모든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28760" y="36036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시 처음으로 돌아와서 시공경험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 시공경험평가시에는 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이상의 평기준을 따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기간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 준공된 공사가 없을경우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하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준공된 실적으로 평가받고자 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00040" y="1857240"/>
          <a:ext cx="5667480" cy="104796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TextBox 7"/>
          <p:cNvSpPr/>
          <p:nvPr/>
        </p:nvSpPr>
        <p:spPr>
          <a:xfrm>
            <a:off x="428760" y="2928960"/>
            <a:ext cx="828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자체에서는 시공경험평가는 추정가격기준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밑에 금액은 어느 발주처에서 나온 입찰공사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고 준공실적이 없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00040" y="3786120"/>
          <a:ext cx="3143160" cy="51444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45,600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428760" y="435780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준공실적이 없으므로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기 때문에 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만 가지고 있습니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0,000,000(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÷145,6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0.54945*100=54.945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셋째자리에서 반올림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4.9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표를 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주기 때문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 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 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물론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에 따라 점수는 틀려지겠지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!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후  현재까지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라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60,000,000+15,500,000)÷145,600,000=0.51854*100=51.854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 셋째자리에서 반올림하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1.8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비율을 따져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게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28760" y="716400"/>
            <a:ext cx="77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한 설명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공사는 추정가격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억원미만인 공사의 경영상태 평가표에 의해 평가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직사각형 4"/>
          <p:cNvSpPr/>
          <p:nvPr/>
        </p:nvSpPr>
        <p:spPr>
          <a:xfrm>
            <a:off x="500040" y="2500200"/>
            <a:ext cx="70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3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6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9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500040" y="1500120"/>
          <a:ext cx="5943600" cy="94320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285840" y="1539720"/>
          <a:ext cx="7429320" cy="2961000"/>
        </p:xfrm>
        <a:graphic>
          <a:graphicData uri="http://schemas.openxmlformats.org/drawingml/2006/table">
            <a:tbl>
              <a:tblPr/>
              <a:tblGrid>
                <a:gridCol w="1693800"/>
                <a:gridCol w="2521080"/>
                <a:gridCol w="928440"/>
                <a:gridCol w="1071720"/>
                <a:gridCol w="1214280"/>
              </a:tblGrid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  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 1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 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  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  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TextBox 4"/>
          <p:cNvSpPr/>
          <p:nvPr/>
        </p:nvSpPr>
        <p:spPr>
          <a:xfrm>
            <a:off x="285840" y="285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접근성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28760" y="1001880"/>
            <a:ext cx="7786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현재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내 군 또는 자치구는 평가에서 제외하므로 배점한도 적용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역 및 인접한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에 주된 사무소가 소재하는 업체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특별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․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광역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․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도 발주공사 포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 이후 입찰참가등록마감일 이전에 당해공사 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에서 새로이 설립된 업체의 경우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부여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을 기준으로 당해공사 현장을 관할하는</a:t>
            </a:r>
            <a:r>
              <a:rPr b="1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 및 인접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내에 관련 업종의 등록소지자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미만인 경우는 평가제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배점한도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2       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부여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 ○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입찰공고일 전일부터 계약체결일까지 당해지역에 소재하지 아니한 경우 접근성 점수를 부여하지 아니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인접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이란 공사현장을 관할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과 행정구역상 경계선이 접하는 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군지역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해상인접인 경우 인접시군으로 보지 않는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위 내용을 간단히 설명해 드린다면 아래 그림의 보고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4" name="그림 7" descr="ScreenHunter_01 Nov. 27 08.58.gif"/>
          <p:cNvPicPr/>
          <p:nvPr/>
        </p:nvPicPr>
        <p:blipFill>
          <a:blip r:embed="rId1"/>
          <a:stretch/>
        </p:blipFill>
        <p:spPr>
          <a:xfrm>
            <a:off x="500040" y="2857680"/>
            <a:ext cx="2643120" cy="17143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428760" y="4650120"/>
            <a:ext cx="7786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귀사가  충주시에  소재 되어 있는 업체라면 어느 지역에서 발주하는 공사까지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을까요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도상에 보면 제천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음성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 지역이 경계선을 두고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바로 이 지역이 접근지역으로 보시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청주시에 소재 되어 있다면 경계선이 청원군밖에 안되어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래서 청주지역 소재업체는 청원군에서 발주하는 공사 까지 접근성을 인정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물론 청주시에서 발주하는 공사도 접근성 인정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마지막으로 음성군에 소재되어 있다면 충주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괴산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진천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증평군 까지 인접지역이 이므로 접근성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428760" y="360360"/>
            <a:ext cx="77864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내용들을 종합해 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수행능력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4.8/5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시공경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 ×4.8/5=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×4.8=24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4/5=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시공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 나왔다면 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 ×4.8/5=3.8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상태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별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-4&g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경영상태평가방법에 의한 평가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×5/1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 ×5/10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×5=5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/5=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경영상태평가점수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.5×5/10=4.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귀사가 인접지역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점수를 합산하면 시공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.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경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접근성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총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공사는 입찰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 수행점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포함해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으면 적격통과 이므로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입찰가격 산식에 대입해서 계산해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7.74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투찰율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자세한 내용은 만점투찰율 계산방법을 참고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428760" y="550080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99720"/>
                <a:gridCol w="220680"/>
                <a:gridCol w="971640"/>
                <a:gridCol w="209520"/>
                <a:gridCol w="1085760"/>
                <a:gridCol w="801720"/>
                <a:gridCol w="1590840"/>
              </a:tblGrid>
              <a:tr h="250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8:18Z</dcterms:modified>
  <cp:revision>68</cp:revision>
  <dc:subject/>
  <dc:title>만점투찰율구하는 방법과 입찰가격점수 구하는 방법  </dc:title>
</cp:coreProperties>
</file>