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E84-FB53-416E-B53C-9EE8E24E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265-9EE6-4F66-9D90-1369B42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35B46-F037-4FA1-B915-0541187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DAA1A-B477-4569-AFDE-FBA37FC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543D7-5791-4006-9FFE-17CCC7B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50CCB-3244-4ED5-A809-6E923F6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A8A8F-619A-451A-AAE6-4FA35C5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EC95B-D3F1-4EF3-AC44-36C718D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537C2-7CB0-4712-9910-E8E793D9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ED351-7753-45F6-9216-CBF9F45F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52BD4-05CD-4EE0-BC25-A467E2C0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6566B-ADAC-4127-A29A-483470EA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F35-88AA-4C5A-8D77-D936242A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A2AE2-4E1F-4E52-9BC6-F99EB96F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46EDB-7EAE-490C-B515-458741BA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C404E-FC46-40F5-81BF-78E697C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674D-7A93-43CB-A0B8-7A622F21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AA49F-3EF9-4E0F-99D9-DC66D043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A1E73-E6D0-4AFA-902B-CF7D1FE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8899-1106-4E02-B3FE-F39F1A2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C187D-51E5-4934-964A-3618000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FD034-7B83-433A-907B-4132D91C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0CF60-87AD-4F07-8DDD-4E956419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8A4-3E1F-48B9-A0F7-7F87954E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6BEDF-653A-4304-B1E8-B0BC8BD3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DFFDB-8819-42FE-BC1E-65BF7ED4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CC82-8017-4D2A-AE16-1E51CE9F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728B6-5EFB-41CC-8BFD-D2AE4D74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8AE0F-38AD-4926-BB98-AB7A2687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7AF33-E95E-42C2-9A98-DA2156A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E21EA-F331-405D-9AAA-4EFA049B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973F-DE20-4D07-BF8B-9B9027B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AA91D-E07B-4E4E-B474-FF7444B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AE6A1-E9F5-4D8D-969E-63C44A3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1C1A-9782-4298-8E70-9A9B8D5F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2A65-EFA3-46C9-8B4E-6750381E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2DD6C-EBC0-444A-8A4C-715E4637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CA7B4-CE13-403E-A894-959C7F2F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692-3CD7-4829-9435-F253FA75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1F55-FCD6-4914-8F58-A42424D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B337-557F-4DDE-980C-B450D18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76AE-385E-475E-A1EA-8108007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734A-19F2-4F3E-BCC8-54F038B9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6C91-360E-456F-AFA0-8BC0A1D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DC9-2015-49AB-B584-1DE9742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A29F-C0DC-4456-9187-A5859BE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E5B-FE68-4470-A205-88F3FB5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9CFD-FAF5-41D7-BF81-DF85CCC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B1E5-EC8F-4978-9210-AFFCE274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C180-F148-4FBC-874F-73216CD6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F989-E317-4426-BF18-9D9ABB35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244D-B62B-400F-9FFC-AC3DDCDE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6A10-AD7C-45EC-A238-8C2F302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A78F-1BC3-4D31-8068-5A460D7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2543-DB51-49E3-9E53-0904DCB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8BB-6CB7-4868-80DE-F92D336D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EFBB-AF2C-4A07-A466-6743A94A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823E-2819-4369-822F-9DAB821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4E0D-0E6C-4452-9BD0-D477DA01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C44A-F4EE-4768-9157-146FCDAA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963F-263F-42CB-A8B6-01241A6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A8F4-C60F-4BA9-A208-C58F409F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DF32-4727-429E-BA7F-F0F4C53C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14ED4-E273-4EEE-8E20-4E27E0F0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BCF7F-CBA2-4B25-8367-69755C05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EDD5C-BCC7-4219-AB34-F4F438CC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AC3-2D06-4964-8FA2-B51E083D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83A7C-ADEF-448B-95B0-5FEE20CF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1A1A5-8700-422F-8D04-FE9FCECB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B8CE7-3504-46C3-B64D-7199DBD7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19457-C920-478F-AB6A-DAB53AA6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7BCE0-212F-45BC-9EF0-442BE2F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03769-E30B-458D-9C1A-C0CE8DD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570AD-DE8A-4729-BF7B-4FD188A4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A88C2-6047-48E0-8D0A-FD4FEC29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F0651-7EDC-466A-B4B8-562F5358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96F1-EB20-4192-AA80-04E316C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7F6-2A59-4EBE-93FF-6DC4B8E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D0F0-4573-4A2A-98F1-3D0D4C1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9D798-8467-471F-8E65-B9F3C1A2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8666-603A-4A0B-84EF-A862353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54E2-0F9F-4A43-9B7F-09368F9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BA95-9E74-4A33-8C98-8F064FC7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5A20-5829-4FF1-BF6F-92843DD5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C3A1-4086-4DB7-A2D0-5B438C9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7483-D713-4766-BAB1-1135EEF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EC21-DFD4-4479-BC14-8279FE9B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BB0B-E3D7-4330-B493-67150408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D54-52C0-49D1-9ACC-B35646C3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FAF2-BDA6-4E0F-A5AC-1F706351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25397-BF1F-4E63-BC50-914CCC85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C147-EC6D-4877-8F39-990B9D6C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6527-F16A-4F9B-B9CA-F930EC43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580D4-7C2A-4D5D-ACEC-78848404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233E-95A7-42E2-9C55-F1B98B2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406A4-CC17-45AD-8617-470AA59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817B1-7D9B-471A-B929-3D487E9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6329-257E-41F4-AF11-49425DF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E566-99B3-470C-AFF5-8C09961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697-0F8A-4500-A6AD-0121AC2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CF37-515A-48DB-BD8C-570BBDA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25BD6-A83D-4D9F-B38B-77F9A750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1A87-7F0A-4EA0-A968-B8423FC3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F0CFF-91B8-42DA-8422-29A0E9D8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96B9A-63CF-4273-8AE9-74959509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0D6E2-D857-48FC-A126-FE870D35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4A2D-007C-4D1A-B7AF-6589FBB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53DD-CF4A-40BF-AC93-D9A980D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EF92D-2BE0-4393-A3A5-EA96AA77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29AF-5920-4EFA-93CF-7B54D6B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85B-F502-46FC-A56C-1BB4B384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1763-00A9-4B29-BF62-D8E23D1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35E2B-F036-41EC-A789-FB9B45C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CA28-BAE1-4D77-B7DF-7CC0778B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E067-1214-42A4-96C2-2F06314B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7DF4D-3465-40EE-BBA4-B531CC48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6AB21-FD3D-4EF7-ABF3-B736773B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43662-0115-4920-A62C-DD57C1E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6123F-DA54-4E21-84CB-5888248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192B-F302-4B18-A47A-9F736B2C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0DB02-FDCD-48F0-B021-C59EAAD8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9EC-38A8-43BF-8379-331CF70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2659-4559-46D2-A79C-3F1E82DC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CF57-8FE0-41E8-9509-13790F5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1D29D-8AA2-4F34-A226-F6F9C1D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901C0-CEE4-41FE-BC43-E6CB620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53F03-7D9F-41E9-95C2-08F83D8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BF264-925F-46AC-AF22-21C6470F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AC46E-AF77-4315-82EB-D85EFBF1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95026-B37C-466C-9691-9A825A35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EB69F-4FEE-48ED-B7B5-F6E10C1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FF9ED-4121-4621-8059-CCB99A9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C202-20CE-4B23-80D6-DCD84BDD1C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직선 연결선 8" descr=""/>
          <p:cNvPicPr/>
          <p:nvPr/>
        </p:nvPicPr>
        <p:blipFill>
          <a:blip r:embed="rId3"/>
          <a:stretch/>
        </p:blipFill>
        <p:spPr>
          <a:xfrm>
            <a:off x="407880" y="1378080"/>
            <a:ext cx="8315280" cy="968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B3C-78B0-4266-974D-1DBCABD5E7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직사각형 8"/>
          <p:cNvSpPr/>
          <p:nvPr/>
        </p:nvSpPr>
        <p:spPr>
          <a:xfrm>
            <a:off x="7643880" y="-15840"/>
            <a:ext cx="150012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D80-751A-4780-AB69-F44079211A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FFFF-DF6C-4121-AACB-CCD19B82B2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7AF7-BA4E-4E22-8BBB-A248E1C9E2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직사각형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직선 연결선 9" descr=""/>
          <p:cNvPicPr/>
          <p:nvPr/>
        </p:nvPicPr>
        <p:blipFill>
          <a:blip r:embed="rId2"/>
          <a:stretch/>
        </p:blipFill>
        <p:spPr>
          <a:xfrm>
            <a:off x="469800" y="4389480"/>
            <a:ext cx="7772400" cy="8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F27-7FDF-44F0-8CC2-ABD96F106B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49E-D13B-4FAA-9B26-A8B812ED3F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직사각형 9"/>
          <p:cNvSpPr/>
          <p:nvPr/>
        </p:nvSpPr>
        <p:spPr>
          <a:xfrm>
            <a:off x="8859960" y="0"/>
            <a:ext cx="285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2682-6E21-4BC7-B6E0-B1B6E949E2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5E8-740A-4B16-80BB-B6FB703CEE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8"/>
          <p:cNvSpPr/>
          <p:nvPr/>
        </p:nvSpPr>
        <p:spPr>
          <a:xfrm>
            <a:off x="285840" y="263520"/>
            <a:ext cx="8858160" cy="665280"/>
          </a:xfrm>
          <a:prstGeom prst="rect">
            <a:avLst/>
          </a:prstGeom>
          <a:solidFill>
            <a:srgbClr val="3f3f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직사각형 9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754-C236-469C-AB44-0F438B2B92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직사각형 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5718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4A2A-120F-4104-954A-2FE5478356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86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50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이상의 경쟁입찰공사 평가기준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28760" y="631440"/>
            <a:ext cx="77864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에서는  다음과같이 시공경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포함해서 총수행능력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평가하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실적으로 입찰참가자격을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제한한 경쟁입찰공사 와 시공실적으로 입찰참가자격을 제한하지 않은 경쟁입찰공사 로 나뉘어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교육에서는 시공실적으로 입찰참가자격을 제한하지 않은 경쟁입찰교육을 하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일반건설공사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00040" y="457200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640"/>
                <a:gridCol w="209520"/>
                <a:gridCol w="1085760"/>
                <a:gridCol w="801720"/>
                <a:gridCol w="1590480"/>
              </a:tblGrid>
              <a:tr h="2509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0-4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입찰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)×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＝ 입찰가격점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2" name="TextBox 10"/>
          <p:cNvSpPr/>
          <p:nvPr/>
        </p:nvSpPr>
        <p:spPr>
          <a:xfrm>
            <a:off x="1225440" y="5143680"/>
            <a:ext cx="37558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이 예정가격이하로서 예정가격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분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9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인 경우의 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저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28760" y="2286000"/>
          <a:ext cx="5667120" cy="642960"/>
        </p:xfrm>
        <a:graphic>
          <a:graphicData uri="http://schemas.openxmlformats.org/drawingml/2006/table">
            <a:tbl>
              <a:tblPr/>
              <a:tblGrid>
                <a:gridCol w="1133280"/>
                <a:gridCol w="1133640"/>
                <a:gridCol w="1133280"/>
                <a:gridCol w="1133640"/>
                <a:gridCol w="1133280"/>
              </a:tblGrid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357120" y="3000240"/>
            <a:ext cx="457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정보통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설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문화재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하수개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기타 다른 법령에 의한 공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28760" y="3214800"/>
          <a:ext cx="5686200" cy="642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14200"/>
              </a:tblGrid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직사각형 15"/>
          <p:cNvSpPr/>
          <p:nvPr/>
        </p:nvSpPr>
        <p:spPr>
          <a:xfrm>
            <a:off x="428760" y="39290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  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=  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별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-3&g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경영상태 평가방법에 의한 평가 점수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시공경험평가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428760" y="7214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은 한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얼마나 갖고 있느냐에 따라서 점수가 달라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 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협회에 신고을 하면 협회에서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 실적을 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이므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신고된 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은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변경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매우 간단하기는 하지만 조금 헷갈려 하는 분들이 많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금부터 평가방법에 대해서 말씀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공사 추정가격에 해당업종 평가비율을 곱한 금액 대비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당해공사와 동일한 평가대상 업종별 실적금액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주기관의 관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급자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비는 제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비율로 다음과 같이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를 산정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직사각형 8"/>
          <p:cNvSpPr/>
          <p:nvPr/>
        </p:nvSpPr>
        <p:spPr>
          <a:xfrm>
            <a:off x="522000" y="248436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종합건설공사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357120" y="3286080"/>
            <a:ext cx="82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다음과 같은 공사가 나올 경우 시공경험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28760" y="3500280"/>
          <a:ext cx="3143160" cy="514440"/>
        </p:xfrm>
        <a:graphic>
          <a:graphicData uri="http://schemas.openxmlformats.org/drawingml/2006/table">
            <a:tbl>
              <a:tblPr/>
              <a:tblGrid>
                <a:gridCol w="1466640"/>
                <a:gridCol w="1676520"/>
              </a:tblGrid>
              <a:tr h="1717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,850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추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,500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기초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,850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직사각형 13"/>
          <p:cNvSpPr/>
          <p:nvPr/>
        </p:nvSpPr>
        <p:spPr>
          <a:xfrm>
            <a:off x="357120" y="406728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,2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가지고 있을 경우 다음과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공사 추정가격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,500,000,000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 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 받기위해서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대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,0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200%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 있어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계산을 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,500,000,000×200%=7,0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 이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을 가지고 있어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시공경험평가를 해보면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,500,000,000 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÷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,500,0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2.14285×100=214.285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수점 셋째자리에서 반올림하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14.29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  즉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점수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,5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을 가지고 있을 경우도 위와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,500,000,000 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÷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,500,0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1.85714×100=185.714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수점 셋째자리에서 반올림하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85.71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  즉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점수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업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으로 계산해보면 귀사의  시공경험점수를 알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76280" y="2786040"/>
          <a:ext cx="5667480" cy="500040"/>
        </p:xfrm>
        <a:graphic>
          <a:graphicData uri="http://schemas.openxmlformats.org/drawingml/2006/table">
            <a:tbl>
              <a:tblPr/>
              <a:tblGrid>
                <a:gridCol w="1133280"/>
                <a:gridCol w="1133640"/>
                <a:gridCol w="1133640"/>
                <a:gridCol w="1133280"/>
                <a:gridCol w="1133640"/>
              </a:tblGrid>
              <a:tr h="16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경영상태평가 계산 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8760" y="78516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금부터는 경영상태평가 방법에 대한 설명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공사는 추정가격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500,00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므로 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인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이상 공사의 경영상태 평가표에 의해 평가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밑에 보이는 그림은 가상업체에 대한 경영상태를 미리 뽑아 보았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계산방법은 매우 간단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냥 분자 분모를 나누어 업체평균을 다시 나누어주기만 하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&gt;                                                                      *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평균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일반건설경영상태 평균비율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직사각형 4"/>
          <p:cNvSpPr/>
          <p:nvPr/>
        </p:nvSpPr>
        <p:spPr>
          <a:xfrm>
            <a:off x="500040" y="2500200"/>
            <a:ext cx="70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14,0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총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3,245,78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기자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96576....×100=9.67659..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9.67÷172.23 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561458×100=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때문에  반올림이 안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5.61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 평균대비가 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아래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보면 부채비율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므로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런 방법으로 부채비율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5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에 따라서 점수가 부여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계산을 하여 평균대비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5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 나 올 경우는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6.3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구하는 방법과 동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,374,77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자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136,1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부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39.46784...×100=3,946.78405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946.78÷138.14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28.57087×100=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 때문에 반올림이 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2857.09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가 계산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으므로 이 업체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9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1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기 때문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은 공종별로 비율이 틀림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종별 가중 평가 비율표를 참고하셔서 해당 공종평균비율을 입력하여 계산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00040" y="1500120"/>
          <a:ext cx="5943600" cy="943200"/>
        </p:xfrm>
        <a:graphic>
          <a:graphicData uri="http://schemas.openxmlformats.org/drawingml/2006/table">
            <a:tbl>
              <a:tblPr/>
              <a:tblGrid>
                <a:gridCol w="743040"/>
                <a:gridCol w="743040"/>
                <a:gridCol w="742680"/>
                <a:gridCol w="743040"/>
                <a:gridCol w="743040"/>
                <a:gridCol w="743040"/>
                <a:gridCol w="742680"/>
                <a:gridCol w="743040"/>
              </a:tblGrid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심사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요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자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/B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업체평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균대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총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14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.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72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자기자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,245,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자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,374,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946.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8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857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부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6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285840" y="2858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과 유동비율은 모든 공사의 기초 경영상태 평가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직사각형 5"/>
          <p:cNvSpPr/>
          <p:nvPr/>
        </p:nvSpPr>
        <p:spPr>
          <a:xfrm>
            <a:off x="285840" y="29876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앞으로 부족한 부분은 교육하면서 보완해 나 갈 것이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별 적격심사 또는 기본적으로 알아야 할 부분에 대해서 설명 해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은 시공경험부분으로 공사규모별로 한 업체가 실적이 얼마나 갖고 있느냐에 따라점수가 부여되는 부분에 대해서 설명해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3297960"/>
            <a:ext cx="77864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내용들을 종합해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대로 점수를 그대로 평가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 넘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부채비율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유동비율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영엽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점수를 합산하면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총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공사는 입찰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으면 적격통과 이므로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 입찰가격 산식에 대입해서 계산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6.74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투찰율이 계산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자세한 내용은 만점투찰율 계산방법을 참고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85840" y="600084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280"/>
                <a:gridCol w="209520"/>
                <a:gridCol w="1086120"/>
                <a:gridCol w="801720"/>
                <a:gridCol w="1590480"/>
              </a:tblGrid>
              <a:tr h="250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57120" y="642960"/>
          <a:ext cx="7215120" cy="1782720"/>
        </p:xfrm>
        <a:graphic>
          <a:graphicData uri="http://schemas.openxmlformats.org/drawingml/2006/table">
            <a:tbl>
              <a:tblPr/>
              <a:tblGrid>
                <a:gridCol w="1895400"/>
                <a:gridCol w="1849680"/>
                <a:gridCol w="809640"/>
                <a:gridCol w="1724040"/>
                <a:gridCol w="9363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심 사 항 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 가 요 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배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 가 등 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최근년도 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타인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자기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업종별 평균 부채비율에 대한 해당업체의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A. 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B. 7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C. 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D. 12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E. 12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최근년도 유동비율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유동자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유동부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업종별 평균 유동비율에 대한 해당업체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A. 1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B. 12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C. 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D.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E.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영업기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0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직사각형 10"/>
          <p:cNvSpPr/>
          <p:nvPr/>
        </p:nvSpPr>
        <p:spPr>
          <a:xfrm>
            <a:off x="285840" y="250020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영업기간의 평가는 건설업체가 입찰공고일 현재 보유하고 있는 건설업면허 취득 또는 등록일로부터 입찰공고일까지의 기간을 기준으로 평가하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관련협회로부터 통보된 자료에 의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55:51Z</dcterms:created>
  <dc:creator>차승호</dc:creator>
  <dc:description/>
  <dc:language>en-US</dc:language>
  <cp:lastModifiedBy>정경인</cp:lastModifiedBy>
  <dcterms:modified xsi:type="dcterms:W3CDTF">2009-05-20T00:49:24Z</dcterms:modified>
  <cp:revision>88</cp:revision>
  <dc:subject/>
  <dc:title>만점투찰율구하는 방법과 입찰가격점수 구하는 방법  </dc:title>
</cp:coreProperties>
</file>