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853ED-8E5C-4683-A8C2-31E56D101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7BACD-B1D6-4257-89C6-4198EF238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8D3EDF-3C9C-438A-A1F2-BCB1F2B7E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91C95C-F35C-471A-BB5A-AD3F04C6C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ubTitle"/>
          </p:nvPr>
        </p:nvSpPr>
        <p:spPr>
          <a:xfrm>
            <a:off x="312480" y="274320"/>
            <a:ext cx="8545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692D3D-6C81-4AA9-AD04-166A3DEBD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11227C-47DB-4CD6-AB3F-893792B65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E108B5-66DE-4E5A-9035-7E567C153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3E9489-06D0-4BC7-9363-5AE2081A7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084313-A561-48EB-BE03-2965A4E84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7248AB-C78E-498D-AEC5-D0E60E95B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3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3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130304-C60A-471B-B1E0-EBAECFE1E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0CDDCB-064E-4A97-9B53-93FFFE215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26AA9-55F2-45AE-B0D1-5DDDE6A90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AE999E-2FD9-4D4B-8C9B-7F86F43E1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AA7C72-3E7E-44B3-AD3F-B98E8BC9A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8D717E-559D-4D3A-89A5-3F8ABFE07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4ECA57-5F34-4E3A-89AE-87F0523EE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ubTitle"/>
          </p:nvPr>
        </p:nvSpPr>
        <p:spPr>
          <a:xfrm>
            <a:off x="312480" y="274320"/>
            <a:ext cx="8545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A8E462-7EBC-4788-A5EB-5E7B24CD7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0143DA-EBA1-4C74-BA76-5453435F6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D67D73-5BBF-4279-97FA-811299B31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60EE39-EF7A-45F6-8FB4-1B4EC1A66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E1481F-F874-476B-B12C-3592690E5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E2B413-2E05-46C7-8B7F-76662B66F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F2724-9F9F-435E-B222-C3F564C61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4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4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91B8A9-DCBA-4386-9044-41C24B9AB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BE13EF-9EE5-4E04-BD18-50145A75C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AD7B08-DD3A-40A9-ADCB-3D46ECEC1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7C0108-0729-4BDE-963F-43B4FF38E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E8B92F-13CE-4880-BAFD-D352AE307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238490-6EAD-4FA4-BE2D-B93BB5BC7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ubTitle"/>
          </p:nvPr>
        </p:nvSpPr>
        <p:spPr>
          <a:xfrm>
            <a:off x="312480" y="274320"/>
            <a:ext cx="8545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FBA437-AD33-4452-8307-BACBB64E6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335DA4-4B13-4405-A484-2E9CAC117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75D0B0-0866-41D3-8451-FB8C0B38C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FE6989-D6BE-4B02-888C-6A70E28D0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10993-9C34-44DB-80DB-C6AAC2F3C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9490F9-A829-4C7B-92C5-CA00A910C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731992-E677-4984-861A-94F73668C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4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4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93F460-2430-43C3-979C-F8E60E7E7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6651C-097B-43EA-84CA-1CC927DB2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FF910-06C1-4559-A7C2-41EA249B0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6D571-A493-44EB-BE64-A8B787AE4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6F895-7018-4343-B8E4-D51A41F47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312480" y="274320"/>
            <a:ext cx="8545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071DC-C647-4618-A632-15F96F420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088B1-E17B-43C9-B401-624044C48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EBDB2-3119-4088-AB7F-C930EB13F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52F85-0986-41C2-B591-B61F48063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2D96B-C16E-444F-A24A-71CCE5021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20E35-DFA3-4CDF-894C-7D4625F48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95C14-2868-4C6B-BAE8-AB5F28F85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82C85-D6EF-4BAC-A1B9-9644BAD19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449DA6-C390-4311-BCF6-94C8E13FF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5B17C4-4028-4264-98E0-D82941108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73344F-E6BF-4795-985D-359925A49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4FCAD5-CE7F-4BFC-9799-C7FC73B02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8F7778-CC89-4D10-A71C-707900E50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DDC83-EBEA-4A1E-934B-612DB7B8F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312480" y="274320"/>
            <a:ext cx="8545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BD08CC-AB90-4D9D-8845-E2EDB23C6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B2E112-1BBF-43F5-835E-C480A2AFA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F5FA9F-DF2B-4BED-BDDC-3E7B63C54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65A4C3-65E7-4B29-B0E4-BC3032F5B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C977BC-2DA9-40EF-8600-C92D19529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869D74-B17E-4B7E-987F-948B7025F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C9682A-2AB9-4BE6-ACD8-923D9ACC0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8A892D8-09C6-4DB4-ABFE-00DA92F88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2124B65-057B-476E-8A35-AB02FDBB7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7C4CCD5-6793-4636-B35B-49E783241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D2DC7-EEEF-4BC3-B584-239448EA0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FB8AA43-7E0B-43C9-89D6-4D0AB89F2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B786EDF-C5B5-42E7-BE21-727BE65E3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312480" y="274320"/>
            <a:ext cx="8545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5507531-7BB7-4E9E-8A7B-18E3276E1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089E420-00D0-4AC1-94B2-0817CBE19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F60513F-A720-435F-AAC2-9971FBBCB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F6F03EE-CE03-4510-BE42-86F86B15C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815923D-A5F0-47C9-8B2D-CA52FB5ED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C9A8625-2FC1-4D78-988A-ACFA8A0BD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59BA8B3-5EFA-4353-8E31-C04A4F76A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02E3C0-9931-447C-9FF1-AA10D2137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FE9E3-BA70-41C6-9592-E96698D42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727D3F-0106-47D9-8F3D-5C8E8EDE0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4E572F-C5CE-4594-ABCF-D224387FF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3321ED-AD8B-4D2F-8B40-C35CCE9FC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BB5FB9-C51C-4A5B-B03E-366E275B5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12480" y="274320"/>
            <a:ext cx="8545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25E238-3734-4FF5-BEA0-E71736383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30D665-7A83-4EE6-85A2-89B40CE5F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EDBD6E-733A-4FE3-9941-84D949746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6E78B6-C9F4-4F4E-9AC0-1BBF78FDD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9EE73C-B05C-4943-945F-E2F75ACC9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340F37-DE04-4DDC-900A-DCD817461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12480" y="274320"/>
            <a:ext cx="8545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80417-73CA-467F-B4D3-FEAC243D0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D9C538-B231-4F7F-9299-F850385F3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AE9B88-5C96-4CA7-AC3A-0B43095C9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D8D9D8-325A-4379-B8E4-63A15D0F7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705DD4-30D0-4924-9B37-3D20F2028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486259-81A3-46B3-9B39-DCBB471F8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9164E1-30C5-4941-AC2B-9BC46765F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312480" y="274320"/>
            <a:ext cx="8545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5607A1-4E72-457E-94C4-EA0C14D54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97849A-1AB2-4F3B-8290-7BA43D8A9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6478B6-1E25-437D-B7A3-52C05DCAC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A6D648-8888-42B6-965A-7017853C5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DE19B-7FC2-4DE8-8996-ABC4B6A54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413A19-F8F9-4967-8462-5DA5621BF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907FD9-B866-43DE-BD8D-06535A632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F010DE-3BDF-4B9D-9007-009D70389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50CD10-4185-4E50-B4E9-5D04545A8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7C96B5-885F-443A-B178-9C80B7790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60E4A5-C804-485F-B37A-F1077E1D4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445BC3-88F1-4E2A-ABAD-8B5258959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D07019-7579-4923-BDD6-BF07FB9C0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ubTitle"/>
          </p:nvPr>
        </p:nvSpPr>
        <p:spPr>
          <a:xfrm>
            <a:off x="312480" y="274320"/>
            <a:ext cx="8545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2866C5-1C6B-48B3-ACF4-C2F9A191F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669D65-2122-43D9-8F5E-A618F98AD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3EBB2-0038-4A54-AA63-A29EE29DC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B4EC70-0365-4ECD-B8F3-E53715F4C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D5D3BB-C0EF-4A35-B24A-FB38EE99A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37614D-8F57-4A9A-A193-6AC2C7C5B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A2379B-EEAF-4434-B8D2-A688DE107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3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1270C2-2675-4D69-B599-C2DA577B6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E38E54-1D06-46AC-8BAA-BA699382B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CA4D84-6981-4784-B21F-59A101389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81263A-6BF7-4455-B3E0-43CA95882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4B6FB9-45B5-4000-AA3F-D87A7E45C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28A518-E57B-4BC0-8522-8F2051937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1F3DA-0D8D-4412-B4C4-D6A15F30C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ubTitle"/>
          </p:nvPr>
        </p:nvSpPr>
        <p:spPr>
          <a:xfrm>
            <a:off x="312480" y="274320"/>
            <a:ext cx="8545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924089-7732-41B8-9B68-7F38CA554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286FAE-5650-42AC-BDDA-0558DFD1D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C2FDE3-6FE0-4004-B498-6C37E2FF7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237598-4B3B-4AAD-8E7D-E829887EB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E2BAB4-15D1-4EDF-B255-3CEC949D1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ECA9B0-E2AC-45F6-88F6-FCD0656EF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3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3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F56356-1AC7-4EDE-A1E5-AAB06D524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A8CA43-BACA-4ECF-9B07-16C53CD80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0840C7-4A41-4B3F-91C4-91B62507E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C5FE8C-1BE5-4FC4-87C1-EAD1856C4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6572160"/>
            <a:ext cx="9144000" cy="285840"/>
          </a:xfrm>
          <a:prstGeom prst="rect">
            <a:avLst/>
          </a:prstGeom>
          <a:solidFill>
            <a:srgbClr val="e494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직사각형 7"/>
          <p:cNvSpPr/>
          <p:nvPr/>
        </p:nvSpPr>
        <p:spPr>
          <a:xfrm>
            <a:off x="0" y="1440"/>
            <a:ext cx="9144000" cy="284400"/>
          </a:xfrm>
          <a:prstGeom prst="rect">
            <a:avLst/>
          </a:prstGeom>
          <a:solidFill>
            <a:srgbClr val="7ba5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33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021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c982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021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433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021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c982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021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433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021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021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021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572160"/>
            <a:ext cx="213372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572160"/>
            <a:ext cx="289584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572160"/>
            <a:ext cx="213372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DF9B1-9F1B-4BD8-8EF1-AF0C87A89EA3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직사각형 27"/>
          <p:cNvSpPr/>
          <p:nvPr/>
        </p:nvSpPr>
        <p:spPr>
          <a:xfrm>
            <a:off x="0" y="6572160"/>
            <a:ext cx="9144000" cy="285840"/>
          </a:xfrm>
          <a:prstGeom prst="rect">
            <a:avLst/>
          </a:prstGeom>
          <a:solidFill>
            <a:srgbClr val="e494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직사각형 7"/>
          <p:cNvSpPr/>
          <p:nvPr/>
        </p:nvSpPr>
        <p:spPr>
          <a:xfrm>
            <a:off x="0" y="1440"/>
            <a:ext cx="9144000" cy="284400"/>
          </a:xfrm>
          <a:prstGeom prst="rect">
            <a:avLst/>
          </a:prstGeom>
          <a:solidFill>
            <a:srgbClr val="7ba5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400" name="직선 연결선 8" descr=""/>
          <p:cNvPicPr/>
          <p:nvPr/>
        </p:nvPicPr>
        <p:blipFill>
          <a:blip r:embed="rId3"/>
          <a:stretch/>
        </p:blipFill>
        <p:spPr>
          <a:xfrm>
            <a:off x="407880" y="1378080"/>
            <a:ext cx="8315280" cy="96840"/>
          </a:xfrm>
          <a:prstGeom prst="rect">
            <a:avLst/>
          </a:prstGeom>
          <a:ln w="0">
            <a:noFill/>
          </a:ln>
        </p:spPr>
      </p:pic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33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021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c982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021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433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021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c982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021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433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021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021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021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 type="dt" idx="28"/>
          </p:nvPr>
        </p:nvSpPr>
        <p:spPr>
          <a:xfrm>
            <a:off x="456840" y="6572160"/>
            <a:ext cx="213372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 type="ftr" idx="29"/>
          </p:nvPr>
        </p:nvSpPr>
        <p:spPr>
          <a:xfrm>
            <a:off x="3124080" y="6572160"/>
            <a:ext cx="289584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 type="sldNum" idx="30"/>
          </p:nvPr>
        </p:nvSpPr>
        <p:spPr>
          <a:xfrm>
            <a:off x="6552720" y="6572160"/>
            <a:ext cx="213372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2CFCB-1D11-4514-9381-BB748D82AE45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직사각형 27"/>
          <p:cNvSpPr/>
          <p:nvPr/>
        </p:nvSpPr>
        <p:spPr>
          <a:xfrm>
            <a:off x="0" y="6572160"/>
            <a:ext cx="9144000" cy="285840"/>
          </a:xfrm>
          <a:prstGeom prst="rect">
            <a:avLst/>
          </a:prstGeom>
          <a:solidFill>
            <a:srgbClr val="e494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3" name="직사각형 7"/>
          <p:cNvSpPr/>
          <p:nvPr/>
        </p:nvSpPr>
        <p:spPr>
          <a:xfrm>
            <a:off x="0" y="1440"/>
            <a:ext cx="9144000" cy="284400"/>
          </a:xfrm>
          <a:prstGeom prst="rect">
            <a:avLst/>
          </a:prstGeom>
          <a:solidFill>
            <a:srgbClr val="7ba5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직사각형 8"/>
          <p:cNvSpPr/>
          <p:nvPr/>
        </p:nvSpPr>
        <p:spPr>
          <a:xfrm>
            <a:off x="7643880" y="-15840"/>
            <a:ext cx="1500120" cy="685800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33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021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c982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021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433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021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c982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021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433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021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021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021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 type="dt" idx="31"/>
          </p:nvPr>
        </p:nvSpPr>
        <p:spPr>
          <a:xfrm>
            <a:off x="456840" y="6572160"/>
            <a:ext cx="213372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 type="ftr" idx="32"/>
          </p:nvPr>
        </p:nvSpPr>
        <p:spPr>
          <a:xfrm>
            <a:off x="3124080" y="6572160"/>
            <a:ext cx="289584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 type="sldNum" idx="33"/>
          </p:nvPr>
        </p:nvSpPr>
        <p:spPr>
          <a:xfrm>
            <a:off x="6552720" y="6572160"/>
            <a:ext cx="213372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A5E4F-84FE-471C-AD87-4FBE307BB79D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직사각형 27"/>
          <p:cNvSpPr/>
          <p:nvPr/>
        </p:nvSpPr>
        <p:spPr>
          <a:xfrm>
            <a:off x="0" y="6572160"/>
            <a:ext cx="9144000" cy="285840"/>
          </a:xfrm>
          <a:prstGeom prst="rect">
            <a:avLst/>
          </a:prstGeom>
          <a:solidFill>
            <a:srgbClr val="e494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직사각형 7"/>
          <p:cNvSpPr/>
          <p:nvPr/>
        </p:nvSpPr>
        <p:spPr>
          <a:xfrm>
            <a:off x="0" y="1440"/>
            <a:ext cx="9144000" cy="284400"/>
          </a:xfrm>
          <a:prstGeom prst="rect">
            <a:avLst/>
          </a:prstGeom>
          <a:solidFill>
            <a:srgbClr val="7ba5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직사각형 8"/>
          <p:cNvSpPr/>
          <p:nvPr/>
        </p:nvSpPr>
        <p:spPr>
          <a:xfrm>
            <a:off x="428760" y="0"/>
            <a:ext cx="8286480" cy="685800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33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021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c982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021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433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021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c982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021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433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021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021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021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572160"/>
            <a:ext cx="213372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572160"/>
            <a:ext cx="289584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2720" y="6572160"/>
            <a:ext cx="213372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143BD-9950-43F3-ADF0-75A68D2C4FFF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직사각형 27"/>
          <p:cNvSpPr/>
          <p:nvPr/>
        </p:nvSpPr>
        <p:spPr>
          <a:xfrm>
            <a:off x="0" y="6572160"/>
            <a:ext cx="9144000" cy="285840"/>
          </a:xfrm>
          <a:prstGeom prst="rect">
            <a:avLst/>
          </a:prstGeom>
          <a:solidFill>
            <a:srgbClr val="e494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8" name="직사각형 7"/>
          <p:cNvSpPr/>
          <p:nvPr/>
        </p:nvSpPr>
        <p:spPr>
          <a:xfrm>
            <a:off x="0" y="1440"/>
            <a:ext cx="9144000" cy="284400"/>
          </a:xfrm>
          <a:prstGeom prst="rect">
            <a:avLst/>
          </a:prstGeom>
          <a:solidFill>
            <a:srgbClr val="7ba5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직사각형 8"/>
          <p:cNvSpPr/>
          <p:nvPr/>
        </p:nvSpPr>
        <p:spPr>
          <a:xfrm>
            <a:off x="0" y="0"/>
            <a:ext cx="285840" cy="685800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33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021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c982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021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433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021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c982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021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433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021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021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021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456840" y="6572160"/>
            <a:ext cx="213372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3124080" y="6572160"/>
            <a:ext cx="289584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6552720" y="6572160"/>
            <a:ext cx="213372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29E3D-0947-4CF4-B87A-BA651ADA95AA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직사각형 27"/>
          <p:cNvSpPr/>
          <p:nvPr/>
        </p:nvSpPr>
        <p:spPr>
          <a:xfrm>
            <a:off x="0" y="6572160"/>
            <a:ext cx="9144000" cy="285840"/>
          </a:xfrm>
          <a:prstGeom prst="rect">
            <a:avLst/>
          </a:prstGeom>
          <a:solidFill>
            <a:srgbClr val="e494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직사각형 7"/>
          <p:cNvSpPr/>
          <p:nvPr/>
        </p:nvSpPr>
        <p:spPr>
          <a:xfrm>
            <a:off x="0" y="1440"/>
            <a:ext cx="9144000" cy="284400"/>
          </a:xfrm>
          <a:prstGeom prst="rect">
            <a:avLst/>
          </a:prstGeom>
          <a:solidFill>
            <a:srgbClr val="7ba5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직사각형 8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34" name="직선 연결선 9" descr=""/>
          <p:cNvPicPr/>
          <p:nvPr/>
        </p:nvPicPr>
        <p:blipFill>
          <a:blip r:embed="rId2"/>
          <a:stretch/>
        </p:blipFill>
        <p:spPr>
          <a:xfrm>
            <a:off x="469800" y="4389480"/>
            <a:ext cx="7772400" cy="8568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33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021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c982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021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433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021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c982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021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433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021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021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021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ftr" idx="10"/>
          </p:nvPr>
        </p:nvSpPr>
        <p:spPr>
          <a:xfrm>
            <a:off x="3124080" y="6572160"/>
            <a:ext cx="289584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6552720" y="6572160"/>
            <a:ext cx="213372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47D8A-9FA2-49D2-B579-576E400B9741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dt" idx="12"/>
          </p:nvPr>
        </p:nvSpPr>
        <p:spPr>
          <a:xfrm>
            <a:off x="456840" y="6572160"/>
            <a:ext cx="213372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직사각형 27"/>
          <p:cNvSpPr/>
          <p:nvPr/>
        </p:nvSpPr>
        <p:spPr>
          <a:xfrm>
            <a:off x="0" y="6572160"/>
            <a:ext cx="9144000" cy="285840"/>
          </a:xfrm>
          <a:prstGeom prst="rect">
            <a:avLst/>
          </a:prstGeom>
          <a:solidFill>
            <a:srgbClr val="e494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직사각형 7"/>
          <p:cNvSpPr/>
          <p:nvPr/>
        </p:nvSpPr>
        <p:spPr>
          <a:xfrm>
            <a:off x="0" y="1440"/>
            <a:ext cx="9144000" cy="284400"/>
          </a:xfrm>
          <a:prstGeom prst="rect">
            <a:avLst/>
          </a:prstGeom>
          <a:solidFill>
            <a:srgbClr val="7ba5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직사각형 8"/>
          <p:cNvSpPr/>
          <p:nvPr/>
        </p:nvSpPr>
        <p:spPr>
          <a:xfrm>
            <a:off x="0" y="285840"/>
            <a:ext cx="9144000" cy="114300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33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021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c982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021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433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021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c982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021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433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021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021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021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56840" y="6572160"/>
            <a:ext cx="213372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3124080" y="6572160"/>
            <a:ext cx="289584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552720" y="6572160"/>
            <a:ext cx="213372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37F40-0495-4233-9BDD-B99B4C3700F9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27"/>
          <p:cNvSpPr/>
          <p:nvPr/>
        </p:nvSpPr>
        <p:spPr>
          <a:xfrm>
            <a:off x="0" y="6572160"/>
            <a:ext cx="9144000" cy="285840"/>
          </a:xfrm>
          <a:prstGeom prst="rect">
            <a:avLst/>
          </a:prstGeom>
          <a:solidFill>
            <a:srgbClr val="e494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직사각형 7"/>
          <p:cNvSpPr/>
          <p:nvPr/>
        </p:nvSpPr>
        <p:spPr>
          <a:xfrm>
            <a:off x="0" y="1440"/>
            <a:ext cx="9144000" cy="284400"/>
          </a:xfrm>
          <a:prstGeom prst="rect">
            <a:avLst/>
          </a:prstGeom>
          <a:solidFill>
            <a:srgbClr val="7ba5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2" name="직사각형 8"/>
          <p:cNvSpPr/>
          <p:nvPr/>
        </p:nvSpPr>
        <p:spPr>
          <a:xfrm>
            <a:off x="0" y="0"/>
            <a:ext cx="285840" cy="685800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직사각형 9"/>
          <p:cNvSpPr/>
          <p:nvPr/>
        </p:nvSpPr>
        <p:spPr>
          <a:xfrm>
            <a:off x="8859960" y="0"/>
            <a:ext cx="285480" cy="685800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33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021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c982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021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433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021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c982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021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433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021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021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021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dt" idx="16"/>
          </p:nvPr>
        </p:nvSpPr>
        <p:spPr>
          <a:xfrm>
            <a:off x="456840" y="6572160"/>
            <a:ext cx="213372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ftr" idx="17"/>
          </p:nvPr>
        </p:nvSpPr>
        <p:spPr>
          <a:xfrm>
            <a:off x="3124080" y="6572160"/>
            <a:ext cx="289584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sldNum" idx="18"/>
          </p:nvPr>
        </p:nvSpPr>
        <p:spPr>
          <a:xfrm>
            <a:off x="6552720" y="6572160"/>
            <a:ext cx="213372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4DB2F-AC17-451C-A148-42C10FF5BC43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직사각형 27"/>
          <p:cNvSpPr/>
          <p:nvPr/>
        </p:nvSpPr>
        <p:spPr>
          <a:xfrm>
            <a:off x="0" y="6572160"/>
            <a:ext cx="9144000" cy="285840"/>
          </a:xfrm>
          <a:prstGeom prst="rect">
            <a:avLst/>
          </a:prstGeom>
          <a:solidFill>
            <a:srgbClr val="e494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직사각형 7"/>
          <p:cNvSpPr/>
          <p:nvPr/>
        </p:nvSpPr>
        <p:spPr>
          <a:xfrm>
            <a:off x="0" y="1440"/>
            <a:ext cx="9144000" cy="284400"/>
          </a:xfrm>
          <a:prstGeom prst="rect">
            <a:avLst/>
          </a:prstGeom>
          <a:solidFill>
            <a:srgbClr val="7ba5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직사각형 8"/>
          <p:cNvSpPr/>
          <p:nvPr/>
        </p:nvSpPr>
        <p:spPr>
          <a:xfrm>
            <a:off x="428760" y="0"/>
            <a:ext cx="8286480" cy="685800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33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021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c982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021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433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021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c982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021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433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021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021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021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 type="dt" idx="19"/>
          </p:nvPr>
        </p:nvSpPr>
        <p:spPr>
          <a:xfrm>
            <a:off x="456840" y="6572160"/>
            <a:ext cx="213372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 type="ftr" idx="20"/>
          </p:nvPr>
        </p:nvSpPr>
        <p:spPr>
          <a:xfrm>
            <a:off x="3124080" y="6572160"/>
            <a:ext cx="289584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 type="sldNum" idx="21"/>
          </p:nvPr>
        </p:nvSpPr>
        <p:spPr>
          <a:xfrm>
            <a:off x="6552720" y="6572160"/>
            <a:ext cx="213372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DD30D-2944-478D-ABDB-2C5BA578564E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직사각형 27"/>
          <p:cNvSpPr/>
          <p:nvPr/>
        </p:nvSpPr>
        <p:spPr>
          <a:xfrm>
            <a:off x="0" y="6572160"/>
            <a:ext cx="9144000" cy="285840"/>
          </a:xfrm>
          <a:prstGeom prst="rect">
            <a:avLst/>
          </a:prstGeom>
          <a:solidFill>
            <a:srgbClr val="e494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0" name="직사각형 7"/>
          <p:cNvSpPr/>
          <p:nvPr/>
        </p:nvSpPr>
        <p:spPr>
          <a:xfrm>
            <a:off x="0" y="1440"/>
            <a:ext cx="9144000" cy="284400"/>
          </a:xfrm>
          <a:prstGeom prst="rect">
            <a:avLst/>
          </a:prstGeom>
          <a:solidFill>
            <a:srgbClr val="7ba5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1" name="직사각형 8"/>
          <p:cNvSpPr/>
          <p:nvPr/>
        </p:nvSpPr>
        <p:spPr>
          <a:xfrm>
            <a:off x="285840" y="263520"/>
            <a:ext cx="8858160" cy="665280"/>
          </a:xfrm>
          <a:prstGeom prst="rect">
            <a:avLst/>
          </a:prstGeom>
          <a:solidFill>
            <a:srgbClr val="3f3f3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2" name="직사각형 9"/>
          <p:cNvSpPr/>
          <p:nvPr/>
        </p:nvSpPr>
        <p:spPr>
          <a:xfrm>
            <a:off x="0" y="0"/>
            <a:ext cx="285840" cy="685800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33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021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c982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021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433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021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c982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021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433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021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021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021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 type="dt" idx="22"/>
          </p:nvPr>
        </p:nvSpPr>
        <p:spPr>
          <a:xfrm>
            <a:off x="456840" y="6572160"/>
            <a:ext cx="213372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 type="ftr" idx="23"/>
          </p:nvPr>
        </p:nvSpPr>
        <p:spPr>
          <a:xfrm>
            <a:off x="3124080" y="6572160"/>
            <a:ext cx="289584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 type="sldNum" idx="24"/>
          </p:nvPr>
        </p:nvSpPr>
        <p:spPr>
          <a:xfrm>
            <a:off x="6552720" y="6572160"/>
            <a:ext cx="213372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3124B-03F4-4854-9E56-4F9C229E7B7A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직사각형 27"/>
          <p:cNvSpPr/>
          <p:nvPr/>
        </p:nvSpPr>
        <p:spPr>
          <a:xfrm>
            <a:off x="0" y="6572160"/>
            <a:ext cx="9144000" cy="285840"/>
          </a:xfrm>
          <a:prstGeom prst="rect">
            <a:avLst/>
          </a:prstGeom>
          <a:solidFill>
            <a:srgbClr val="e494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직사각형 7"/>
          <p:cNvSpPr/>
          <p:nvPr/>
        </p:nvSpPr>
        <p:spPr>
          <a:xfrm>
            <a:off x="0" y="1440"/>
            <a:ext cx="9144000" cy="284400"/>
          </a:xfrm>
          <a:prstGeom prst="rect">
            <a:avLst/>
          </a:prstGeom>
          <a:solidFill>
            <a:srgbClr val="7ba5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직사각형 8"/>
          <p:cNvSpPr/>
          <p:nvPr/>
        </p:nvSpPr>
        <p:spPr>
          <a:xfrm>
            <a:off x="0" y="3571920"/>
            <a:ext cx="9144000" cy="328608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33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021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c982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021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433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021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c982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021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433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021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021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021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 type="dt" idx="25"/>
          </p:nvPr>
        </p:nvSpPr>
        <p:spPr>
          <a:xfrm>
            <a:off x="456840" y="6572160"/>
            <a:ext cx="213372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 type="ftr" idx="26"/>
          </p:nvPr>
        </p:nvSpPr>
        <p:spPr>
          <a:xfrm>
            <a:off x="3124080" y="6571800"/>
            <a:ext cx="289584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 type="sldNum" idx="27"/>
          </p:nvPr>
        </p:nvSpPr>
        <p:spPr>
          <a:xfrm>
            <a:off x="6552720" y="6572160"/>
            <a:ext cx="213372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EEEE8-C913-48C5-86C3-BFC6DEB5BF6A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28760" y="28584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br>
              <a:rPr sz="1100"/>
            </a:br>
            <a:br>
              <a:rPr sz="1100"/>
            </a:br>
            <a:br>
              <a:rPr sz="1100"/>
            </a:br>
            <a:r>
              <a:rPr b="1" lang="ko-KR" sz="1400" spc="-1" strike="noStrike">
                <a:solidFill>
                  <a:srgbClr val="000000"/>
                </a:solidFill>
                <a:latin typeface="Georgia"/>
              </a:rPr>
              <a:t>추정가격 </a:t>
            </a: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20</a:t>
            </a:r>
            <a:r>
              <a:rPr b="1" lang="ko-KR" sz="1400" spc="-1" strike="noStrike">
                <a:solidFill>
                  <a:srgbClr val="000000"/>
                </a:solidFill>
                <a:latin typeface="Georgia"/>
              </a:rPr>
              <a:t>억원미만 </a:t>
            </a: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10</a:t>
            </a:r>
            <a:r>
              <a:rPr b="1" lang="ko-KR" sz="1400" spc="-1" strike="noStrike">
                <a:solidFill>
                  <a:srgbClr val="000000"/>
                </a:solidFill>
                <a:latin typeface="Georgia"/>
              </a:rPr>
              <a:t>억원이상의 경쟁입찰공사 평가기준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Georgia"/>
              </a:rPr>
              <a:t>전기</a:t>
            </a: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·</a:t>
            </a:r>
            <a:r>
              <a:rPr b="1" lang="ko-KR" sz="1400" spc="-1" strike="noStrike">
                <a:solidFill>
                  <a:srgbClr val="000000"/>
                </a:solidFill>
                <a:latin typeface="Georgia"/>
              </a:rPr>
              <a:t>정보통신</a:t>
            </a: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·</a:t>
            </a:r>
            <a:r>
              <a:rPr b="1" lang="ko-KR" sz="1400" spc="-1" strike="noStrike">
                <a:solidFill>
                  <a:srgbClr val="000000"/>
                </a:solidFill>
                <a:latin typeface="Georgia"/>
              </a:rPr>
              <a:t>소방공사</a:t>
            </a: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· </a:t>
            </a:r>
            <a:r>
              <a:rPr b="1" lang="ko-KR" sz="1400" spc="-1" strike="noStrike">
                <a:solidFill>
                  <a:srgbClr val="000000"/>
                </a:solidFill>
                <a:latin typeface="Georgia"/>
              </a:rPr>
              <a:t>전문</a:t>
            </a: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·</a:t>
            </a:r>
            <a:r>
              <a:rPr b="1" lang="ko-KR" sz="1400" spc="-1" strike="noStrike">
                <a:solidFill>
                  <a:srgbClr val="000000"/>
                </a:solidFill>
                <a:latin typeface="Georgia"/>
              </a:rPr>
              <a:t>설비</a:t>
            </a: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·</a:t>
            </a:r>
            <a:r>
              <a:rPr b="1" lang="ko-KR" sz="1400" spc="-1" strike="noStrike">
                <a:solidFill>
                  <a:srgbClr val="000000"/>
                </a:solidFill>
                <a:latin typeface="Georgia"/>
              </a:rPr>
              <a:t>문화재</a:t>
            </a: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·</a:t>
            </a:r>
            <a:r>
              <a:rPr b="1" lang="ko-KR" sz="1400" spc="-1" strike="noStrike">
                <a:solidFill>
                  <a:srgbClr val="000000"/>
                </a:solidFill>
                <a:latin typeface="Georgia"/>
              </a:rPr>
              <a:t>지하수개발</a:t>
            </a: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·</a:t>
            </a:r>
            <a:r>
              <a:rPr b="1" lang="ko-KR" sz="1400" spc="-1" strike="noStrike">
                <a:solidFill>
                  <a:srgbClr val="000000"/>
                </a:solidFill>
                <a:latin typeface="Georgia"/>
              </a:rPr>
              <a:t>기타 다른 법령에 의한 공사는 </a:t>
            </a: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20</a:t>
            </a:r>
            <a:r>
              <a:rPr b="1" lang="ko-KR" sz="1400" spc="-1" strike="noStrike">
                <a:solidFill>
                  <a:srgbClr val="000000"/>
                </a:solidFill>
                <a:latin typeface="Georgia"/>
              </a:rPr>
              <a:t>억원미만 </a:t>
            </a: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3</a:t>
            </a:r>
            <a:r>
              <a:rPr b="1" lang="ko-KR" sz="1400" spc="-1" strike="noStrike">
                <a:solidFill>
                  <a:srgbClr val="000000"/>
                </a:solidFill>
                <a:latin typeface="Georgia"/>
              </a:rPr>
              <a:t>억원이상</a:t>
            </a: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) </a:t>
            </a:r>
            <a:br>
              <a:rPr sz="4000"/>
            </a:b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Rectangle 2"/>
          <p:cNvSpPr/>
          <p:nvPr/>
        </p:nvSpPr>
        <p:spPr>
          <a:xfrm>
            <a:off x="428760" y="948960"/>
            <a:ext cx="7786440" cy="163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20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억원미만에서는  다음과같이 시공경험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15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점  경영상태평가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15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점  포함해서 총수행능력점수는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30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점을 평가하고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시공실적으로 입찰참가자격을 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제한한 경쟁입찰공사 와 시공실적으로 입찰참가자격을 제한하지 않은 경쟁입찰공사 로 나뉘어집니다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이 교육에서는 시공실적으로 입찰참가자격을 제한하지 않은 경쟁입찰교육을 하겠습니다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HY견명조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수행능력 평가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(30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점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) 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HY견명조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1.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시공경험평가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(15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점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) 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가</a:t>
            </a: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. </a:t>
            </a: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일반건설공사 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8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graphicFrame>
        <p:nvGraphicFramePr>
          <p:cNvPr id="491" name=""/>
          <p:cNvGraphicFramePr/>
          <p:nvPr/>
        </p:nvGraphicFramePr>
        <p:xfrm>
          <a:off x="500040" y="4929120"/>
          <a:ext cx="5929200" cy="500040"/>
        </p:xfrm>
        <a:graphic>
          <a:graphicData uri="http://schemas.openxmlformats.org/drawingml/2006/table">
            <a:tbl>
              <a:tblPr/>
              <a:tblGrid>
                <a:gridCol w="949320"/>
                <a:gridCol w="100080"/>
                <a:gridCol w="220680"/>
                <a:gridCol w="971640"/>
                <a:gridCol w="209520"/>
                <a:gridCol w="1085760"/>
                <a:gridCol w="801720"/>
                <a:gridCol w="1590480"/>
              </a:tblGrid>
              <a:tr h="250920">
                <a:tc rowSpan="2"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            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70-4×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(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8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입찰가격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)×1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＝ 입찰가격점수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9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1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예정가격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92" name="TextBox 10"/>
          <p:cNvSpPr/>
          <p:nvPr/>
        </p:nvSpPr>
        <p:spPr>
          <a:xfrm>
            <a:off x="1225440" y="5500800"/>
            <a:ext cx="3755880" cy="10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견명조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｜｜는 절대값 표시이다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HY견명조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HY견명조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입찰가격을 예정가격으로 나눈 결과 소수점이하는 소수점 다섯째자리에서 반올림하여 평가한다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HY견명조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○ 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입찰가격이 예정가격이하로서 예정가격의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100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분의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89.25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이상인 경우의 평점은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65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점으로 한다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○ 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최저평점은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2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점으로 한다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</p:txBody>
      </p:sp>
      <p:graphicFrame>
        <p:nvGraphicFramePr>
          <p:cNvPr id="493" name=""/>
          <p:cNvGraphicFramePr/>
          <p:nvPr/>
        </p:nvGraphicFramePr>
        <p:xfrm>
          <a:off x="428760" y="2643120"/>
          <a:ext cx="5667120" cy="642960"/>
        </p:xfrm>
        <a:graphic>
          <a:graphicData uri="http://schemas.openxmlformats.org/drawingml/2006/table">
            <a:tbl>
              <a:tblPr/>
              <a:tblGrid>
                <a:gridCol w="1133280"/>
                <a:gridCol w="1133640"/>
                <a:gridCol w="1133280"/>
                <a:gridCol w="1133640"/>
                <a:gridCol w="1133280"/>
              </a:tblGrid>
              <a:tr h="2145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구    분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A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등급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B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등급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C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등급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D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등급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2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평가비율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180%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이상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160%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이상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140%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이상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140%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미만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2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점    수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15.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13.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11.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9.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4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5" name="TextBox 13"/>
          <p:cNvSpPr/>
          <p:nvPr/>
        </p:nvSpPr>
        <p:spPr>
          <a:xfrm>
            <a:off x="428760" y="3357720"/>
            <a:ext cx="457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나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. 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전기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‧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정보통신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‧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소방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‧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전문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‧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설비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‧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문화재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‧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지하수개발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‧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기타 다른 법령에 의한 공사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</p:txBody>
      </p:sp>
      <p:graphicFrame>
        <p:nvGraphicFramePr>
          <p:cNvPr id="496" name=""/>
          <p:cNvGraphicFramePr/>
          <p:nvPr/>
        </p:nvGraphicFramePr>
        <p:xfrm>
          <a:off x="428760" y="3571920"/>
          <a:ext cx="5686200" cy="642960"/>
        </p:xfrm>
        <a:graphic>
          <a:graphicData uri="http://schemas.openxmlformats.org/drawingml/2006/table">
            <a:tbl>
              <a:tblPr/>
              <a:tblGrid>
                <a:gridCol w="1143000"/>
                <a:gridCol w="1143000"/>
                <a:gridCol w="1143000"/>
                <a:gridCol w="1143000"/>
                <a:gridCol w="1114200"/>
              </a:tblGrid>
              <a:tr h="2142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구 분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A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등급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B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등급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C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등급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D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등급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5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평가비율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100%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이상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75%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이상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60%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이상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60%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미만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2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점 수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15.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13.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11.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9.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7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직사각형 15"/>
          <p:cNvSpPr/>
          <p:nvPr/>
        </p:nvSpPr>
        <p:spPr>
          <a:xfrm>
            <a:off x="428760" y="4357800"/>
            <a:ext cx="45720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2.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경영상태 평가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(15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점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) 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    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점수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=  &lt;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별표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3-3&gt;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의 경영상태 평가방법에 의한 평가 점수 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28760" y="285840"/>
            <a:ext cx="7643520" cy="4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br>
              <a:rPr sz="1100"/>
            </a:br>
            <a:br>
              <a:rPr sz="1100"/>
            </a:br>
            <a:br>
              <a:rPr sz="1100"/>
            </a:b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1.</a:t>
            </a:r>
            <a:r>
              <a:rPr b="1" lang="ko-KR" sz="1400" spc="-1" strike="noStrike">
                <a:solidFill>
                  <a:srgbClr val="000000"/>
                </a:solidFill>
                <a:latin typeface="Georgia"/>
              </a:rPr>
              <a:t>시공경험평가방법</a:t>
            </a:r>
            <a:br>
              <a:rPr sz="4000"/>
            </a:b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Rectangle 2"/>
          <p:cNvSpPr/>
          <p:nvPr/>
        </p:nvSpPr>
        <p:spPr>
          <a:xfrm>
            <a:off x="428760" y="721440"/>
            <a:ext cx="7786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시공경험은 한 업체가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3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년간 실적이 얼마나 갖고 있느냐에 따라서 점수가 달라집니다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.  3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년간 실적은 최근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3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년동안 공사실적을 말합니다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1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년동안 공사실적을 협회에 신고을 하면 협회에서 최근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3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년동안 공사 실적을 발표를 합니다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현재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2008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년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12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월이므로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(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가정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)  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최근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2005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년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,2006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년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,2007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년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신고된 실적을 말합니다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.(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일반은매년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6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월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전문은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7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월 변경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) 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시공경험평가는 매우 간단하기는 하지만 조금 헷갈려 하는 분들이 많습니다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지금부터 평가방법에 대해서 말씀 드리겠습니다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당해공사 추정가격에 해당업종 평가비율을 곱한 금액 대비 최근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3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년이상 당해공사와 동일한 평가대상 업종별 실적금액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(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발주기관의 관급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·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지급자재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비는 제외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)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의 비율로 다음과 같이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점수를 산정합니다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graphicFrame>
        <p:nvGraphicFramePr>
          <p:cNvPr id="504" name=""/>
          <p:cNvGraphicFramePr/>
          <p:nvPr/>
        </p:nvGraphicFramePr>
        <p:xfrm>
          <a:off x="428760" y="2714760"/>
          <a:ext cx="5667120" cy="571320"/>
        </p:xfrm>
        <a:graphic>
          <a:graphicData uri="http://schemas.openxmlformats.org/drawingml/2006/table">
            <a:tbl>
              <a:tblPr/>
              <a:tblGrid>
                <a:gridCol w="1133280"/>
                <a:gridCol w="1133640"/>
                <a:gridCol w="1133280"/>
                <a:gridCol w="1133640"/>
                <a:gridCol w="1133280"/>
              </a:tblGrid>
              <a:tr h="1904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구    분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A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등급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B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등급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C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등급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D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등급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평가비율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180%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이상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160%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이상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140%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이상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140%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미만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점    수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15.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13.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11.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9.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5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6" name="직사각형 8"/>
          <p:cNvSpPr/>
          <p:nvPr/>
        </p:nvSpPr>
        <p:spPr>
          <a:xfrm>
            <a:off x="522000" y="2484360"/>
            <a:ext cx="622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종합건설공사 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TextBox 9"/>
          <p:cNvSpPr/>
          <p:nvPr/>
        </p:nvSpPr>
        <p:spPr>
          <a:xfrm>
            <a:off x="357120" y="3286080"/>
            <a:ext cx="8215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만약 다음과 같은 공사가 나올 경우 시공경험 평가를 해보겠습니다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</p:txBody>
      </p:sp>
      <p:graphicFrame>
        <p:nvGraphicFramePr>
          <p:cNvPr id="508" name=""/>
          <p:cNvGraphicFramePr/>
          <p:nvPr/>
        </p:nvGraphicFramePr>
        <p:xfrm>
          <a:off x="428760" y="3500280"/>
          <a:ext cx="3143160" cy="514440"/>
        </p:xfrm>
        <a:graphic>
          <a:graphicData uri="http://schemas.openxmlformats.org/drawingml/2006/table">
            <a:tbl>
              <a:tblPr/>
              <a:tblGrid>
                <a:gridCol w="1466640"/>
                <a:gridCol w="1676520"/>
              </a:tblGrid>
              <a:tr h="171720"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예정금액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1,650,000,0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360"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추정가격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5a5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1,500,000,0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5a5"/>
                    </a:solidFill>
                  </a:tcPr>
                </a:tc>
              </a:tr>
              <a:tr h="171360"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기초금액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1,650,000,0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9" name="직사각형 13"/>
          <p:cNvSpPr/>
          <p:nvPr/>
        </p:nvSpPr>
        <p:spPr>
          <a:xfrm>
            <a:off x="357120" y="4067280"/>
            <a:ext cx="83581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A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건설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(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건축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)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이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3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년간 실적이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2,800,000,000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을 가지고 있을 경우 다음과 같이 평가를 합니다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위 공사 추정가격이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1,500,000,000 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원 이므로 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A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등급 받기위해서는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추정가격대비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2,700,000,000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원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(180%)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이상이 있어야 합니다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계산을 해보면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1,500,000,000×180%=2,700,000,000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원 이상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3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년간 실적을 가지고 있어야 합니다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A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건설 시공경험평가를 해보면 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2,800,000,000 (3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년실적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)</a:t>
            </a: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÷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1,500,000,000(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추정가격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)=1.86666×100=186.666  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소수점 셋째자리에서 반올림하여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186.67%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가 나옵니다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. 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평가비율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180%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이상이므로 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A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등급  즉 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15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점 점수를 받습니다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B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건설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(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건축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)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이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3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년간 실적이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2,600,000,000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원을 가지고 있을 경우도 위와 같이 평가를 합니다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.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B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건설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2,600,000,000 (3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년실적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)</a:t>
            </a: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÷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1,500,000,000(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추정가격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)=1.73333×100=173.333  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소수점 셋째자리에서 반올림하여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173.33% 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가 나옵니다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. 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평가비율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160%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이상이므로 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B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등급  즉 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13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점 점수를 받습니다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귀사업체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3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년간 실적으로 계산해보면 귀사의  시공경험점수를 알 수 있습니다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7643520" cy="2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br>
              <a:rPr sz="1100"/>
            </a:br>
            <a:br>
              <a:rPr sz="1100"/>
            </a:br>
            <a:br>
              <a:rPr sz="1100"/>
            </a:b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2.</a:t>
            </a:r>
            <a:r>
              <a:rPr b="1" lang="ko-KR" sz="1400" spc="-1" strike="noStrike">
                <a:solidFill>
                  <a:srgbClr val="000000"/>
                </a:solidFill>
                <a:latin typeface="Georgia"/>
              </a:rPr>
              <a:t>경영상태평가 계산 방법</a:t>
            </a:r>
            <a:br>
              <a:rPr sz="4000"/>
            </a:b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Rectangle 2"/>
          <p:cNvSpPr/>
          <p:nvPr/>
        </p:nvSpPr>
        <p:spPr>
          <a:xfrm>
            <a:off x="428760" y="504720"/>
            <a:ext cx="778644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지금부터는 경영상태평가 방법에 대한 설명입니다</a:t>
            </a: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. 20</a:t>
            </a: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억미만  </a:t>
            </a: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10</a:t>
            </a: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억이상 공사는 추정가격 </a:t>
            </a: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30</a:t>
            </a: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억원미만인 </a:t>
            </a: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10</a:t>
            </a: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억이상공사의 경영상태 평가표에 의해 평가합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니다</a:t>
            </a: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.</a:t>
            </a: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평가등급 중 ‘</a:t>
            </a: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A'</a:t>
            </a: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공사는 추정가격 </a:t>
            </a: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30</a:t>
            </a: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억원미만 </a:t>
            </a: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10</a:t>
            </a: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억원이상인 공사에 적용하고  </a:t>
            </a: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B'</a:t>
            </a: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공사는 추정가격 </a:t>
            </a: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10</a:t>
            </a: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억원미만 </a:t>
            </a: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3</a:t>
            </a: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억원이상인 전기</a:t>
            </a: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·</a:t>
            </a: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정보통신</a:t>
            </a: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·</a:t>
            </a: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소방</a:t>
            </a: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·</a:t>
            </a: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전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문</a:t>
            </a: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·</a:t>
            </a: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설비</a:t>
            </a: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·</a:t>
            </a: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문화재</a:t>
            </a: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·</a:t>
            </a: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지하수개발</a:t>
            </a: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·</a:t>
            </a: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기타 다른 법령에 의한 공사에 적용하며</a:t>
            </a: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최저 평점은 </a:t>
            </a: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E</a:t>
            </a: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등급으로 평가 함 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밑에 보이는 그림은 가상업체에 대한 경영상태를 미리 뽑아 보았습니다</a:t>
            </a: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계산방법은 매우 간단합니다</a:t>
            </a: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. </a:t>
            </a: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그냥 분자 분모를 나누어 업체평균을 다시 나누어주기만 하면 됩니다</a:t>
            </a: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&lt;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표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1&gt;                                                                      * 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업체평균은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2007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년도 일반건설경영상태 평균비율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직사각형 4"/>
          <p:cNvSpPr/>
          <p:nvPr/>
        </p:nvSpPr>
        <p:spPr>
          <a:xfrm>
            <a:off x="500040" y="2786040"/>
            <a:ext cx="7000920" cy="37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●</a:t>
            </a: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부채비율 평균대비 구하는 방법 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314,081(</a:t>
            </a: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부채총계</a:t>
            </a: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)÷3,245,780(</a:t>
            </a: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자기자본</a:t>
            </a: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)=0.096576....×100=9.67659...</a:t>
            </a: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나온 값에 소수점 셋 째자리에서 절사합니다</a:t>
            </a: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9.67÷172.23 (</a:t>
            </a: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업체평균</a:t>
            </a: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)=0.0561458×100=5.614</a:t>
            </a: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나온 값에서 소숫점 셋 째자리에서 반올림합니다</a:t>
            </a: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5.614</a:t>
            </a: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에서 셋째자리가 </a:t>
            </a: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4</a:t>
            </a: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이기때문에  반올림이 안되므로 </a:t>
            </a:r>
            <a:r>
              <a:rPr b="0" lang="en-US" sz="900" spc="-1" strike="noStrike">
                <a:solidFill>
                  <a:srgbClr val="ff0000"/>
                </a:solidFill>
                <a:latin typeface="Georgia"/>
              </a:rPr>
              <a:t>5.61%</a:t>
            </a: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가 평균대비가 된다</a:t>
            </a: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아래 </a:t>
            </a: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&lt;</a:t>
            </a: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표</a:t>
            </a: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2&gt;</a:t>
            </a: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에서 보면 부채비율 </a:t>
            </a: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50%</a:t>
            </a: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미만이므로 </a:t>
            </a: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8</a:t>
            </a: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점을  받습니다</a:t>
            </a: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이런 방법으로 부채비율이 </a:t>
            </a: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50%</a:t>
            </a: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미만이냐 </a:t>
            </a: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75%</a:t>
            </a: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미만이냐에 따라서 점수가 부여됩니다</a:t>
            </a: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만약 계산을 하여 평균대비가 </a:t>
            </a: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75%</a:t>
            </a: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미만이 나 올 경우는  </a:t>
            </a: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7.2</a:t>
            </a: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점을 받습니다</a:t>
            </a: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●</a:t>
            </a: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유동비율 평균대비 구하는 방법 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부채비율 구하는 방법과 동일합니다</a:t>
            </a: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5,374,770(</a:t>
            </a: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유동자산</a:t>
            </a: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)÷136,181(</a:t>
            </a: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유동부채</a:t>
            </a: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)=39.46784...×100=3,946.78405 </a:t>
            </a: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나온 값에 소수점 셋 째자리에서 절사합니다</a:t>
            </a: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3,946.78÷138.14(</a:t>
            </a: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업체평균</a:t>
            </a: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)=28.57087×100=2857.087</a:t>
            </a: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나온 값에서 소숫점 셋 째자리에서 반올림합니다</a:t>
            </a: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2857.087</a:t>
            </a: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에서 셋째자리가 </a:t>
            </a: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7</a:t>
            </a: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이기 때문에 반올림이 되므로 </a:t>
            </a:r>
            <a:r>
              <a:rPr b="0" lang="en-US" sz="900" spc="-1" strike="noStrike">
                <a:solidFill>
                  <a:srgbClr val="ff0000"/>
                </a:solidFill>
                <a:latin typeface="Georgia"/>
              </a:rPr>
              <a:t>2857.09%</a:t>
            </a: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이가 계산 됩니다</a:t>
            </a: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&lt;</a:t>
            </a: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표</a:t>
            </a: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2&gt;</a:t>
            </a: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에서 유동비율</a:t>
            </a: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150%</a:t>
            </a: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이상이면 </a:t>
            </a: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7</a:t>
            </a: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점을 받으므로 이 업체는 </a:t>
            </a: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2857.09  </a:t>
            </a: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즉</a:t>
            </a: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. 150%</a:t>
            </a: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이상이기 때문에 </a:t>
            </a: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7</a:t>
            </a: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점을 받을 수 있습니다</a:t>
            </a: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※</a:t>
            </a: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업체평균은 공종별로 비율이 틀림니다</a:t>
            </a: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. </a:t>
            </a: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업종별 가중 평가 비율표를 참고하셔서 해당 공종평균비율을 입력하여 계산하시기 바랍니다</a:t>
            </a: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</p:txBody>
      </p:sp>
      <p:graphicFrame>
        <p:nvGraphicFramePr>
          <p:cNvPr id="513" name=""/>
          <p:cNvGraphicFramePr/>
          <p:nvPr/>
        </p:nvGraphicFramePr>
        <p:xfrm>
          <a:off x="500040" y="1843200"/>
          <a:ext cx="5943600" cy="942840"/>
        </p:xfrm>
        <a:graphic>
          <a:graphicData uri="http://schemas.openxmlformats.org/drawingml/2006/table">
            <a:tbl>
              <a:tblPr/>
              <a:tblGrid>
                <a:gridCol w="743040"/>
                <a:gridCol w="743040"/>
                <a:gridCol w="742680"/>
                <a:gridCol w="743040"/>
                <a:gridCol w="743040"/>
                <a:gridCol w="743040"/>
                <a:gridCol w="742680"/>
                <a:gridCol w="743040"/>
              </a:tblGrid>
              <a:tr h="1886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심사항목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평가요소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평가자료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A/B(%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업체평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평균대비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등급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평점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9000"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부채비율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부채총계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314,08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9.67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172.2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5.6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8.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7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자기자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3,245,78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8640"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유동비율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유동자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5,374,77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3946.78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138.1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2857.09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7.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유동부채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136,18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14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TextBox 4"/>
          <p:cNvSpPr/>
          <p:nvPr/>
        </p:nvSpPr>
        <p:spPr>
          <a:xfrm>
            <a:off x="285840" y="285840"/>
            <a:ext cx="742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부채비율과 유동비율은 모든 공사의 기초 경영상태 평가입니다</a:t>
            </a: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&lt;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표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2&gt;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직사각형 5"/>
          <p:cNvSpPr/>
          <p:nvPr/>
        </p:nvSpPr>
        <p:spPr>
          <a:xfrm>
            <a:off x="285840" y="2428920"/>
            <a:ext cx="74293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앞으로 부족한 부분은 교육하면서 보완해 나 갈 것이며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공사규모별 적격심사 또는 기본적으로 알아야 할 부분에 대해서 설명 해드리겠습니다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다음은 시공경험부분으로 공사규모별로 한 업체가 실적이 얼마나 갖고 있느냐에 따라점수가 부여되는 부분에 대해서 설명해 드리겠습니다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Rectangle 2"/>
          <p:cNvSpPr/>
          <p:nvPr/>
        </p:nvSpPr>
        <p:spPr>
          <a:xfrm>
            <a:off x="285840" y="2923200"/>
            <a:ext cx="7786440" cy="28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위 내용들을 종합해 평가를 해보겠습니다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HY견명조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수행능력 평가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(30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점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) 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HY견명조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1.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시공경험평가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(15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점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) 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평가비율대로 점수를 그대로 평가받습니다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180%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이상이 넘으면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15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점을 받습니다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2.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경영상태평가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(15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점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) 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부채비율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8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점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유동비율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7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점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위 점수를 합산하면 시공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15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점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경영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15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점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총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30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점을 받습니다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20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억원미만 공사는 입찰가격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65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점 수행점수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30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점을 포함해서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95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점을 받으면 적격통과 이므로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다음 입찰가격 산식에 대입해서 계산해보면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86.745% 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투찰율이 계산됩니다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자세한 내용은 만점투찰율 계산방법을 참고하시기 바랍니다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</p:txBody>
      </p:sp>
      <p:graphicFrame>
        <p:nvGraphicFramePr>
          <p:cNvPr id="520" name=""/>
          <p:cNvGraphicFramePr/>
          <p:nvPr/>
        </p:nvGraphicFramePr>
        <p:xfrm>
          <a:off x="285840" y="6000840"/>
          <a:ext cx="5929200" cy="500040"/>
        </p:xfrm>
        <a:graphic>
          <a:graphicData uri="http://schemas.openxmlformats.org/drawingml/2006/table">
            <a:tbl>
              <a:tblPr/>
              <a:tblGrid>
                <a:gridCol w="949320"/>
                <a:gridCol w="100080"/>
                <a:gridCol w="220680"/>
                <a:gridCol w="971280"/>
                <a:gridCol w="209520"/>
                <a:gridCol w="1086120"/>
                <a:gridCol w="801720"/>
                <a:gridCol w="1590480"/>
              </a:tblGrid>
              <a:tr h="250560">
                <a:tc rowSpan="2"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90-20×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(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8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입찰가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)×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＝ 입찰가격점수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9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예정가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21" name=""/>
          <p:cNvGraphicFramePr/>
          <p:nvPr/>
        </p:nvGraphicFramePr>
        <p:xfrm>
          <a:off x="285840" y="642960"/>
          <a:ext cx="7643880" cy="1646280"/>
        </p:xfrm>
        <a:graphic>
          <a:graphicData uri="http://schemas.openxmlformats.org/drawingml/2006/table">
            <a:tbl>
              <a:tblPr/>
              <a:tblGrid>
                <a:gridCol w="1214280"/>
                <a:gridCol w="2571840"/>
                <a:gridCol w="446040"/>
                <a:gridCol w="1406520"/>
                <a:gridCol w="1320840"/>
                <a:gridCol w="684360"/>
              </a:tblGrid>
              <a:tr h="137520"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심 사 항 목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평 가 요 소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배점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평   가   등   급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평점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A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공사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B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공사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861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가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. 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최근년도 부채비율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   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(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타인자본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/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자기자본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1)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업종별 평균 부채비율에 대한 해당업체의 비율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A. 50%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미만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B. 75%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미만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C. 100%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미만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D. 125%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미만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E. 125%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이상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A. 100%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미만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B. 130%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미만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C. 160%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미만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D. 190%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미만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E. 190%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이상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8.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7.2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6.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5.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4.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61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나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. 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최근년도 유동 비율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(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유동자산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/ 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유동부채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2)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업종별 평균 유동비율에 대한 해당업체 비율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A. 150%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이상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B. 120%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이상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C. 100%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이상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D. 70%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이상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E. 70%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미만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A. 100%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이상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B. 90%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이상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C. 80%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이상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D. 70%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이상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E. 70%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미만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7.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6.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5.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4.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4.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2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1T01:55:51Z</dcterms:created>
  <dc:creator>차승호</dc:creator>
  <dc:description/>
  <dc:language>en-US</dc:language>
  <cp:lastModifiedBy>정경인</cp:lastModifiedBy>
  <dcterms:modified xsi:type="dcterms:W3CDTF">2009-05-20T00:49:10Z</dcterms:modified>
  <cp:revision>86</cp:revision>
  <dc:subject/>
  <dc:title>만점투찰율구하는 방법과 입찰가격점수 구하는 방법  </dc:title>
</cp:coreProperties>
</file>