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380-E034-4802-8335-04412D2B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352-B59D-4CEC-895C-D57A67C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47122-AFCC-4FD3-9218-8AFF1D5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9734E-9749-474F-9D6B-906A868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AEA2-DDA3-4F51-ABE5-D2B08225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536B2-E0F1-4BA9-A6CD-70F0B6F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FFDB-DBA2-4BEA-BC08-DA89A00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C99E2-0534-4F4F-80A1-4A8C3FE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C156-057E-466B-A653-55DC07A7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EA2CA-C38B-462B-833C-70E05360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72608-303C-4884-9DE7-31560419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8B282-D1FB-4A17-9118-2C06DD47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910-C771-4EB0-82B3-C4EAE99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0416-0DFF-412C-892E-82CFF7D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C931-2279-4B6C-A5F2-87814D6C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131C-FF07-4538-AB91-BE34153A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732C6-5E65-4B5E-8BC8-1758331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D24F9-0A6F-4838-A78A-D2FCF5F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4D587-4BCA-4DC2-B05E-AE098FB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8FFF4-0292-423F-8039-CF32FF1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FC2A-2BFB-4E4B-90EF-499C490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E632A-EDD7-41D5-85CE-DB5C4C8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BD0A3-2D42-4CFC-95F3-D1ADD891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282-DAF4-47AB-8272-8A27D583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E989B-D04D-44D2-B3A0-A1278116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035BD-1DC2-4911-8656-2E48E1C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F0BB7-BDD4-47F5-83EB-B1AE31E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46D29-DA94-4023-9644-8DE494BE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A109C-5036-4CF7-8742-DB00F22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3974-FFDE-4266-B67E-69F82DB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73D50-6827-4500-9E5A-D0D01639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F21FB-192D-43F4-9808-401EEA4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CAE9C-0AA3-4CBE-AA73-87BCCA0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1F92-EDF0-47ED-B1CB-3AF15A7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D060-015B-4445-8DC1-ED5892FA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0BE4-25AD-4E1E-A4E3-D0604A0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7C10-0CFB-4298-A2FF-6E265E8E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2362D-13C2-4819-98D5-C8E6AD5D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D96-6F7E-4799-A5DD-C6B79604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F829-ED69-407D-8E38-A6CCBB5D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70B-EDFB-49D2-8091-912E0716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6B91-2B7A-451E-B903-FCC8E6C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62B-B997-48AF-B2C8-E3EA19E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C85F-F4B4-4384-8F6A-CE7AF4D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793-EDB9-4BD3-B811-42EAA319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2FB-1346-4E37-A278-5CB498E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58A-8E12-4AB7-9A74-C08F006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03F-E854-4C20-A659-DE282F4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1A9-7292-438E-8FD3-ECE4F8EF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2F6-7970-46F3-9766-09ED77E3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518C-0219-4BD4-B187-90BE778B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41FD-0082-4A28-B816-2C78F04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A294-092E-4799-8756-52920F36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AE69-9827-46DE-80F4-36F2375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74D3-F78F-4889-BF20-49304390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4AF-ED0F-4E9C-AA74-77258D2F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C040-D631-4598-9D47-05FA904F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A185-15C5-41F2-860B-CE78451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76F1-7099-4837-AAF8-6F6497F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9C22-D46E-4CD1-8973-3E3E3AD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F5A4-DABA-4CCD-94B7-ECB6083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D074-E89E-4FDE-A1BC-0D2AA40E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044A-EF09-42FE-BC38-F31D8FF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10D31-3E47-444C-86BE-588BCD0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79EE9-6051-418B-9303-0735231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D667F-9AC3-41B8-B2B7-5D49549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CE7-90D3-4D8E-A625-89E2AC8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FF3AB-D9CE-4AF9-B617-F2C85F4C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95C8D-54B0-438B-B6BA-97D25CAA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E73B9-1CAE-4E21-B244-85CBF87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C98CD-F94A-4CED-8A2F-287A299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F5BCE-E8AC-44E8-BC10-DEE2C7E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5B962-7E33-495B-B9C2-FB6427D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45424-86B3-4E25-80F7-5EB6C8B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F8FD4-5E12-4DC7-AE7E-2CFEB92C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065ED-87CC-4FC7-9730-55EACCAB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B793-9A53-49D6-B790-469929E2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DB1-21A9-48B8-B66A-4B6ABC1C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B355-5261-493F-8FE7-5CBF4DD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EEEAE-EC80-43DC-B0A7-5D3C33D0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92DA1-ABC7-4DF6-81BA-6B6A025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31E6-D304-4E25-9884-CF26511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2338-F182-48BC-B45F-7042F54E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A7EB-46AF-454D-9665-0FC188D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1871-AD9B-4C5A-BF9A-A12899B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98BC-CD7D-4E2C-9AE8-D991FB0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C61C-C6D4-4147-9E8E-50BAA26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0BF6-AE1F-4FC5-814B-3F2CD8F5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3C9-3686-48B6-BC3A-0ABB9E54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6CB7-DD10-4CA0-9F3D-05FFD4CE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8D27-8944-41B0-8938-2A122F54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93C9-5D68-4DB8-8B8D-D557A4F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667F-7CA8-4548-AF01-B3528C44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9F04-842B-45DC-B06D-4322778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205A-5970-462B-B524-3D51FF6A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634C-949E-4B85-8DEB-94AA0D8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B8D7-6C37-4453-BEC3-6EDCEF1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4AF0-CE5E-4CE8-BD7B-47BF5D1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E575-C966-431F-B80C-2DB7646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21A-C35D-48CD-A7E5-7173ED1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C3129-B7DA-4651-BB94-A50D8459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9067-0FF0-46B0-B12B-180869CC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3EFDC-2C1A-402D-8A8F-7E45F760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FA3D-0AB2-45E9-8BDB-4F12024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63133-AB0E-4370-B5F8-0C72C9B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33058-D8F2-41F2-8FD9-08DEA11D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CD45-B340-4C0C-B4C8-3CEAD19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DCDA-3E2A-420A-9D84-975FFFC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8BD5-836D-45AA-A82A-4D184AA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9331-DDD4-4835-9CA1-0CB11E2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AE7-52A4-4D0A-B754-74277E4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B56A-CD14-4856-91E8-EA935332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25229-E5AD-4433-9E5E-6BBCDDA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A589-3267-416C-B26F-EC41B00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489D-34E6-4409-8769-FE817ACE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A867B-C2CA-491B-9CAA-10E44F96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44E8F-4C43-4E5E-9DF1-334B9410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54C8F-9757-4E0D-A4F6-5DB3DA2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AE90-C209-46B6-962E-FFEB3C0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506A-3572-4518-BC30-EC17A04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392C-2B2C-4AEB-8804-B2A9E74D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63C-2FB7-4262-ABDE-208C59D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D808-4B38-4EF2-9580-B8A6A66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5A704-AFD9-480F-A29F-E53C2CF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2244-E798-487E-AFAD-D7715D8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98C90-43B6-4252-99A4-73A3BD6F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5DAD-725D-4E5D-AFC7-8CCB227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4E16-6389-4430-A99E-2C489091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1173-3BBF-4BDF-8804-596010B9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577D1-A144-4A4D-8CC0-77D0C0B8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0026-8A2B-4B54-8BFB-A833FAF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86101-751A-4257-8CB8-2AA2F0A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5070-A99D-4D53-A964-61F85BFDF7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29E-FECA-4F43-AC6E-8A8B9E3553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454-9917-4970-8E42-52EC106A07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10C-7B81-4569-A53B-8B3163BB40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2F19-EAD8-4888-95AD-E92CC8319D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2A9-5EE1-40BD-A986-F608D5DDCD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8992-FDD5-4427-AE5F-9D2D36A8E6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0CB8-6BC3-4DBB-B6EF-69476585E0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260-B743-4588-AB41-9844E8BD5E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201-3DCF-416D-B3FF-7E264111F5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F38-4978-4176-90AC-9F68B46A6C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의 경쟁입찰공사 평가기준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전기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정보통신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소방공사는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5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,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전문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설비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문화재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지하수개발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기타 다른 법령에 의한 공사는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이상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)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28760" y="1128960"/>
            <a:ext cx="77864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에서는  다음과같이 시공경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포함해서 총수행능력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방법에 의한 평가점수적용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산식은 다음과 같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00040" y="471492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640"/>
                <a:gridCol w="209520"/>
                <a:gridCol w="1085760"/>
                <a:gridCol w="801720"/>
                <a:gridCol w="1590480"/>
              </a:tblGrid>
              <a:tr h="2509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428760" y="2143080"/>
          <a:ext cx="5667120" cy="1047960"/>
        </p:xfrm>
        <a:graphic>
          <a:graphicData uri="http://schemas.openxmlformats.org/drawingml/2006/table">
            <a:tbl>
              <a:tblPr/>
              <a:tblGrid>
                <a:gridCol w="1490400"/>
                <a:gridCol w="1492200"/>
                <a:gridCol w="671760"/>
                <a:gridCol w="669960"/>
                <a:gridCol w="671400"/>
                <a:gridCol w="67140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TextBox 10"/>
          <p:cNvSpPr/>
          <p:nvPr/>
        </p:nvSpPr>
        <p:spPr>
          <a:xfrm>
            <a:off x="1225440" y="5500800"/>
            <a:ext cx="3755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이 예정가격이하로서 예정가격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분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8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인 경우의 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저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428760" y="728640"/>
            <a:ext cx="77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지방자치단체적격기준에서은 모든 규모의 공사에 시공경험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발표된 적격기준이전에는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은 시공평가를 하지 않았으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모든 공사에 시공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에 따라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 또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냐 차이지 큰 어려움은 없다고 생각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과 같이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또는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에 따라 등급의 차이가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00040" y="4000680"/>
          <a:ext cx="5667480" cy="104760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428760" y="306000"/>
            <a:ext cx="77864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실적인정기간 평가방법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는  일반적으로 관련협회에 신고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를 하는데 귀사가 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준공된 공사가 있을경우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된 실적도 포함시켜서 평가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를 들어보면  가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+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 으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받을 수 있다는 내용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미만 평가시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까지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이상 평가시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반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또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평가시에는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실적이 발표되기 이전공사까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표를 하면  또다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 준공된 실적으로 평가하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렇다면 현재 날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모든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28760" y="358920"/>
            <a:ext cx="7786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시 처음으로 돌아와서 시공경험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기간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 준공된 공사가 없을경우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하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준공된 실적으로 평가받고자 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428760" y="2928960"/>
            <a:ext cx="828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자체에서는 시공경험평가는 추정가격기준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밑에 금액은 어느 발주처에서 나온 입찰공사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9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고 준공실적이 없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00040" y="3786120"/>
          <a:ext cx="3143160" cy="51444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45,600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428760" y="435780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준공실적이 없으므로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기 때문에 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만 가지고 있습니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00,000,000(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÷545,6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0.73313*100=71.313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셋째자리에서 반올림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1.31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표를 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주기 때문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 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 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물론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에 따라 점수는 틀려지겠지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!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6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후  현재까지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라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260,000,000+120,000,000)÷545,600,000=0.69648*100=69.648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 셋째자리에서 반올림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9.6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비율을 따져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게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28760" y="1738440"/>
          <a:ext cx="5667120" cy="1047600"/>
        </p:xfrm>
        <a:graphic>
          <a:graphicData uri="http://schemas.openxmlformats.org/drawingml/2006/table">
            <a:tbl>
              <a:tblPr/>
              <a:tblGrid>
                <a:gridCol w="1490400"/>
                <a:gridCol w="1492200"/>
                <a:gridCol w="671760"/>
                <a:gridCol w="669960"/>
                <a:gridCol w="671400"/>
                <a:gridCol w="67140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28760" y="716400"/>
            <a:ext cx="77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한 설명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인 공사의 경영상태 평가표에 의해 평가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직사각형 4"/>
          <p:cNvSpPr/>
          <p:nvPr/>
        </p:nvSpPr>
        <p:spPr>
          <a:xfrm>
            <a:off x="500040" y="2500200"/>
            <a:ext cx="70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3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6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191.08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00040" y="1500120"/>
          <a:ext cx="5943600" cy="94320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285840" y="1539720"/>
          <a:ext cx="7429320" cy="2961000"/>
        </p:xfrm>
        <a:graphic>
          <a:graphicData uri="http://schemas.openxmlformats.org/drawingml/2006/table">
            <a:tbl>
              <a:tblPr/>
              <a:tblGrid>
                <a:gridCol w="1693800"/>
                <a:gridCol w="2521080"/>
                <a:gridCol w="928440"/>
                <a:gridCol w="1071720"/>
                <a:gridCol w="1214280"/>
              </a:tblGrid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  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 1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 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  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  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TextBox 4"/>
          <p:cNvSpPr/>
          <p:nvPr/>
        </p:nvSpPr>
        <p:spPr>
          <a:xfrm>
            <a:off x="285840" y="285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직사각형 5"/>
          <p:cNvSpPr/>
          <p:nvPr/>
        </p:nvSpPr>
        <p:spPr>
          <a:xfrm>
            <a:off x="285840" y="4786200"/>
            <a:ext cx="7429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부족한 부분은 교육하면서 보완해 나 갈 것이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별 적격심사 또는 기본적으로 알아야 할 부분에 대해서 설명 해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은 시공경험부분으로 공사규모별로 한 업체가 실적이 얼마나 갖고 있느냐에 따라점수가 부여되는 부분에 대해서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접근성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(+0.5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점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28760" y="65556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 공사에서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추가로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귀삭 시공에서 점수가 빠진다거나 경영상태가 부족하여 점수가 빠진다거나 할때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접지역에 소재되어 있다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추가로 보충하여 입찰가격을 맞출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+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: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전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설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문화재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하수개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기타 다른 법령에 의한 공사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 공사에 한하여 적용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이상 </a:t>
            </a:r>
            <a:r>
              <a:rPr b="1" lang="ko-KR" sz="900" spc="-1" strike="noStrike">
                <a:solidFill>
                  <a:srgbClr val="000000"/>
                </a:solidFill>
                <a:latin typeface="Georgia"/>
              </a:rPr>
              <a:t>종합공사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및 전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정보통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소방공사는 평가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적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현재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내 군 또는 자치구는 평가에서 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역 및 인접한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에 주된 사무소가 소재하는 업체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특별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도 발주공사 포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는 수행능력점수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+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가산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이후 입찰참가등록마감일 이전에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에서 새로이 설립된 업체의 경우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+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가산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을 기준으로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 및 인접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내에 관련 업종의 등록소지자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미만인 경우는 평가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적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산점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+0.5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은 당해공사수행능력 배점한도내에서 적용하며 초과부분은 적용하지 않는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부터 계약체결일까지 당해지역에 소재하지 아니한 경우 접근성 점수를 부여하지 아니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접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이란 공사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과 행정구역상 경계선이 접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해상인접인 경우 인접시군으로 보지 않는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6" name="그림 7" descr="ScreenHunter_01 Nov. 27 08.58.gif"/>
          <p:cNvPicPr/>
          <p:nvPr/>
        </p:nvPicPr>
        <p:blipFill>
          <a:blip r:embed="rId1"/>
          <a:stretch/>
        </p:blipFill>
        <p:spPr>
          <a:xfrm>
            <a:off x="571680" y="3500280"/>
            <a:ext cx="2643120" cy="17146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2"/>
          <p:cNvSpPr/>
          <p:nvPr/>
        </p:nvSpPr>
        <p:spPr>
          <a:xfrm>
            <a:off x="428760" y="523872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귀사가  충주시에  소재 되어 있는 업체라면 어느 지역에서 발주하는 공사까지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추가로 받을 수 있을까요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도상에 보면 제천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음성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 지역이 경계선을 두고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바로 이 지역이 접근지역으로 보시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청주시에 소재 되어 있다면 경계선이 청원군밖에 안되어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래서 청주지역 소재업체는 청원군에서 발주하는 공사 까지 접근성을 인정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물론 청주시에서 발주하는 공사도 접근성 인정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마지막으로 음성군에 소재되어 있다면 충주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진천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증평군 까지 인접지역이 이므로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428760" y="359280"/>
            <a:ext cx="778644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내용들을 종합해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대로 점수를 그대로 평가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넘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별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-4&g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경영상태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5/1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 ×5/10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×5=5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/5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×5/10=4.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인접지역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점수를 합산하면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총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경영상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.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이고 접근성을 인정받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을 수 있으면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초과할 수 없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공사는 입찰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으면 적격통과 이므로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입찰가격 산식에 대입해서 계산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7.74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투찰율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자세한 내용은 만점투찰율 계산방법을 참고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28760" y="550080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99720"/>
                <a:gridCol w="220680"/>
                <a:gridCol w="971640"/>
                <a:gridCol w="209520"/>
                <a:gridCol w="1085760"/>
                <a:gridCol w="801720"/>
                <a:gridCol w="1590840"/>
              </a:tblGrid>
              <a:tr h="250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8:55Z</dcterms:modified>
  <cp:revision>71</cp:revision>
  <dc:subject/>
  <dc:title>만점투찰율구하는 방법과 입찰가격점수 구하는 방법  </dc:title>
</cp:coreProperties>
</file>