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CA8-6449-4722-AA63-9C92FBD4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3AE-4F0D-4EC1-848E-B3CB1B34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90266-8C91-414F-9B91-EEFB7C27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4D4D1-9803-4DBD-8210-342D139B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00F07-2E19-4DED-AA93-4400BDEB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FCAD9-9F82-49D8-BB71-781F33A4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84F0A-E9ED-49D9-BD73-9564B712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087BF-73B7-4A37-AA39-79CF555A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B1B88-BD15-4407-8EC0-EC576B50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9D2BB-318D-4697-B819-2BBD0892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CAE9F-27B7-4AD8-A2AB-9C063436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D645F-8EB3-4BE9-A584-D10D27F3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106-7705-48BF-B81A-5F865E20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03725-46E5-492A-867E-55EBC064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8C4F9-A663-4BEE-8DB8-F93642C2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A8F91-9D99-45B1-A105-E4FBF84C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F92B8-1C29-40EA-85AE-33C7DF77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552A1-7B38-46B7-B890-7784B401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97635-226B-4DCB-8647-761FF9EA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5319D-97CF-4D4C-A9C3-9BB0478B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0F5C1-AB6C-4B45-8DB0-5BFBFA50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2991C-F1C8-4AFF-B68B-31E5E026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1F821-721A-46A6-83E4-775720E1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7F43-04DC-4C13-AA6C-8BD10D99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DCB4A-E4F7-4554-81AC-71EEA630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F942A-B762-476A-8EB3-8966DFE4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F104C-87EA-4BF2-B677-37E667CC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1315D-BB1A-4F74-B034-FFF49281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8257C-3F93-4E9D-86A6-45A1BCCA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18A27-755B-43C7-B23E-5CAE6383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B4CD6-5E6B-4F8E-BBBC-E40AE6EB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679A0-1BC0-4C46-98AC-52CC7B37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0597B-75BE-4995-956F-4F634408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619A5-E92A-4304-B04E-56282C3A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4CEF-1B9E-48C7-9FE5-ADE7C4DE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00A10-50AC-46CB-B948-3E2E7F88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52EBE-2C0F-45C1-BA21-EEE2C8D1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FCECD-F3D4-4C35-91C8-43547FB9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B77B-6CF4-4837-AF83-D0D505A3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DABF-2384-4931-8120-31388006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5F5D-DA61-43E1-A483-3E21B335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29E3-453E-46AC-9E34-7D09DC3B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D5B7-6D95-4B92-B5D1-3F380E0E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9DD3-DE3D-4599-A26C-4A17D34B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8E1-9DA1-401F-8659-67EE9806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54D2-9ED7-4ED0-B9B1-E927524C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7D69-5BAA-4201-8E30-D6FD76A0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58F2-B9AD-4223-BEFE-16019491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AB66-4CC1-44E8-859F-4486E811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1927-4992-40F6-99A5-B1FF550D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046D6-CB54-42DF-895E-10012C10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EF048-E351-40E3-B2C3-BE5E40CB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4157D-B881-4F40-9A17-BE5CEEBA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7EE50-3F61-4F7A-829E-E6395AB6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B070B-DEF5-48EA-BA14-1D052C69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BD9-6D63-4B8D-9270-2A084610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0D7A5-9543-4AFC-A9CE-81363597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66EFC-AFB8-436B-B293-FAD5A555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5654F-7860-43D4-9B1D-AD1A38C8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B2118-DB08-4FF0-B861-FBD1BF07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61517-8C57-4E55-9A8C-D7C29E57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3E6DB-7F30-417E-A30E-E360FB56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BD9C9-0B7F-4BDD-8B7F-C30E3027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732548-B20E-4CFA-B9D4-2B120AE7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8E95BE-1522-43D7-8A41-67E08255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53E0C5-D648-4729-9B03-96F2214E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B9CE-E68A-4839-A4A6-3B31D386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C9896F-07C0-4E67-B0FE-170C6311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776F97-1195-4647-AE3F-E7974D37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181FD2-DC97-4C85-A4F3-CC652800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3B5B0F-5D2D-447A-8AA5-92550ABB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319FF3-0551-4F78-9144-68B6F31A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C2E681-E27D-4DE4-B581-02758104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52A5C3-166C-44D7-B562-47B03A07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FEC370-5E38-4734-AD29-96EB3064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BFE638-ED1B-45DA-95F4-CF44B211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42329-89CE-4529-B23B-9CDC328A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CC1-27F0-4E4E-A828-9D068CF4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76932-9437-40CB-AC97-590B8E18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A6C85-B227-479D-85FF-C96615B6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E8E77-F566-4DE2-A52F-447D78F3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91588-3929-4BA9-AC29-EEA3C0E7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9DDA3-0E9F-420D-A5A8-1D72E160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B7814-893C-4CDD-8595-FF424809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0123A-8885-4AC3-A56D-01229A9E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F7769-67E0-4C83-BF26-111A851C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B9C33-D6CA-4DAC-AEA5-E105A8C4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FB508-56DB-42C9-B280-EA9900D2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A90-E9FC-46A8-BA7F-8134F92C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D0C20-B4A1-42E7-9FB1-DCEE1FE9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386C3-743B-4EDF-9902-CDA49BC4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916C3-DDA7-4D23-A11A-03BD177F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24E6D-C744-4DEC-B151-05FD7794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A047C-21D4-437B-8FD7-2363ECAB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B317A-ACEB-4F52-AD52-A9DC12B1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A371A-D3EA-4F4E-9481-E8521FFF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E776C-D04F-4737-9EB6-EB034960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B0C8A-E590-4119-B907-7DDEB1E3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0C64F-2818-4EF9-A2B4-51B4B558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625-9A9D-4E58-9258-2CE3227D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8DFA4-462C-4252-A70B-C725BD34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E5AB1-2CC2-42E6-9211-1CF0F872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E6CC5-9073-4C5E-AD5B-006D0205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15DE5-0852-4C61-990A-1CDF8230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9C01F-723D-4DB4-AF9E-957F17CE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EA870-2B1E-47CD-849F-E4CC4486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560DD-19BD-46E9-AE6C-B7B4DDFC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34415-BEB7-40A9-AA7D-7A356092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AA56F-2C1E-488C-AA84-C8A90C74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8106F-9820-40AE-B908-83D28982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445-C27C-4D26-85BF-EA183948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ED56F-26BD-44E0-AB44-A2345546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72FE7-54B7-4F5F-8CC2-98554AE8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EA7D5-AA84-45D0-8C3F-DD0181D8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7C175-99F8-4D5A-81EF-4B2C3962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0666A-6F19-4AF6-AAB8-39FFCE8E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E1E55-BA04-4A25-A5E2-A419BB9B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3C141-1EC9-483A-B0DB-88541EAC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3AEB6-74F6-4560-9FD1-CC3CE1D8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D7AC2-CD70-4167-BA0D-A1602F92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5C436-F9AC-4CD4-B210-B7017076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159-5193-4D7D-81AC-0410D49B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312480" y="274320"/>
            <a:ext cx="854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F5D7F-B570-4D83-983C-D62D4518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09C45-386F-412B-81B4-107CC39D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F8596-B738-40B8-B589-95B688B3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A7557-3A1A-41F0-ADA6-2AF28CAC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F01CF-EDBE-435B-A189-7D263295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30FE4-8BCF-4F00-B0A4-56F9B342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2D804-20EA-47B5-B372-87AE065A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8BE25-123F-4D08-8252-63461950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A3754-39B6-494B-AF94-3AEC3FE1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29FDA-0CBF-4C55-8D05-06AF3803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8969-BF37-4079-9A7A-08AACA99317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00" name="직선 연결선 8" descr=""/>
          <p:cNvPicPr/>
          <p:nvPr/>
        </p:nvPicPr>
        <p:blipFill>
          <a:blip r:embed="rId3"/>
          <a:stretch/>
        </p:blipFill>
        <p:spPr>
          <a:xfrm>
            <a:off x="407880" y="1378080"/>
            <a:ext cx="8315280" cy="968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618B-CF67-4B41-9867-81A2DEE606B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직사각형 8"/>
          <p:cNvSpPr/>
          <p:nvPr/>
        </p:nvSpPr>
        <p:spPr>
          <a:xfrm>
            <a:off x="7643880" y="-15840"/>
            <a:ext cx="150012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CC8C-906D-4DC5-815E-54610FFED1C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직사각형 8"/>
          <p:cNvSpPr/>
          <p:nvPr/>
        </p:nvSpPr>
        <p:spPr>
          <a:xfrm>
            <a:off x="428760" y="0"/>
            <a:ext cx="828648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19FB-F7B9-4593-8EB6-67DDE6D3F20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직사각형 8"/>
          <p:cNvSpPr/>
          <p:nvPr/>
        </p:nvSpPr>
        <p:spPr>
          <a:xfrm>
            <a:off x="0" y="0"/>
            <a:ext cx="28584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858F-229E-4E43-9344-8756E7F3E89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직사각형 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4" name="직선 연결선 9" descr=""/>
          <p:cNvPicPr/>
          <p:nvPr/>
        </p:nvPicPr>
        <p:blipFill>
          <a:blip r:embed="rId2"/>
          <a:stretch/>
        </p:blipFill>
        <p:spPr>
          <a:xfrm>
            <a:off x="469800" y="4389480"/>
            <a:ext cx="7772400" cy="856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0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4997-4BC7-45ED-B6F4-F3B8FBA6542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직사각형 8"/>
          <p:cNvSpPr/>
          <p:nvPr/>
        </p:nvSpPr>
        <p:spPr>
          <a:xfrm>
            <a:off x="0" y="285840"/>
            <a:ext cx="9144000" cy="1143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9309-BFCE-4D45-997E-8DFAC092A51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직사각형 8"/>
          <p:cNvSpPr/>
          <p:nvPr/>
        </p:nvSpPr>
        <p:spPr>
          <a:xfrm>
            <a:off x="0" y="0"/>
            <a:ext cx="28584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직사각형 9"/>
          <p:cNvSpPr/>
          <p:nvPr/>
        </p:nvSpPr>
        <p:spPr>
          <a:xfrm>
            <a:off x="8859960" y="0"/>
            <a:ext cx="28548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E617-E479-472B-A4D0-A0E56A374AF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직사각형 8"/>
          <p:cNvSpPr/>
          <p:nvPr/>
        </p:nvSpPr>
        <p:spPr>
          <a:xfrm>
            <a:off x="428760" y="0"/>
            <a:ext cx="828648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D2DB-EF9F-480E-BE04-97B1EDFBC19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직사각형 8"/>
          <p:cNvSpPr/>
          <p:nvPr/>
        </p:nvSpPr>
        <p:spPr>
          <a:xfrm>
            <a:off x="285840" y="263520"/>
            <a:ext cx="8858160" cy="665280"/>
          </a:xfrm>
          <a:prstGeom prst="rect">
            <a:avLst/>
          </a:prstGeom>
          <a:solidFill>
            <a:srgbClr val="3f3f3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직사각형 9"/>
          <p:cNvSpPr/>
          <p:nvPr/>
        </p:nvSpPr>
        <p:spPr>
          <a:xfrm>
            <a:off x="0" y="0"/>
            <a:ext cx="28584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3124080" y="657216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781F-F297-4106-B460-7D39A8663E9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직사각형 2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e49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직사각형 7"/>
          <p:cNvSpPr/>
          <p:nvPr/>
        </p:nvSpPr>
        <p:spPr>
          <a:xfrm>
            <a:off x="0" y="1440"/>
            <a:ext cx="9144000" cy="284400"/>
          </a:xfrm>
          <a:prstGeom prst="rect">
            <a:avLst/>
          </a:prstGeom>
          <a:solidFill>
            <a:srgbClr val="7ba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직사각형 8"/>
          <p:cNvSpPr/>
          <p:nvPr/>
        </p:nvSpPr>
        <p:spPr>
          <a:xfrm>
            <a:off x="0" y="3571920"/>
            <a:ext cx="9144000" cy="32860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982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33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02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5718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C0A6-A6B5-44BD-A454-5D9F11B5B1B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Box 8"/>
          <p:cNvSpPr/>
          <p:nvPr/>
        </p:nvSpPr>
        <p:spPr>
          <a:xfrm>
            <a:off x="1284120" y="1143000"/>
            <a:ext cx="20736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명조"/>
              </a:rPr>
              <a:t>기본 용어 해석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명조"/>
              </a:rPr>
              <a:t>만점 투찰율 구하는 방법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명조"/>
              </a:rPr>
              <a:t>입찰가격 구하는 방법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견명조"/>
              </a:rPr>
              <a:t>경영상태평가 계산 방법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견명조"/>
              </a:rPr>
              <a:t>시공경험평가방법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견명조"/>
              </a:rPr>
              <a:t>투찰금액 구하는 방법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견명조"/>
              </a:rPr>
              <a:t>사정율 계산하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Y견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명조"/>
              </a:rPr>
              <a:t>총복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285840" y="7142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투찰시에는 기초금액기준으로  원하는 사정율에  각 규모별  만점투찰율을  곱해서 계산하여 투찰금액을 산정합니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사정율표현은  주사위  또는  홈페이지에서 비율로 나타내므로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%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을 비율로 나타내어 계산하도록 하겠습니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.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43302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433021"/>
                </a:solidFill>
                <a:latin typeface="HY견명조"/>
              </a:rPr>
              <a:t>기초금액 </a:t>
            </a:r>
            <a:r>
              <a:rPr b="1" lang="en-US" sz="1200" spc="-1" strike="noStrike">
                <a:solidFill>
                  <a:srgbClr val="433021"/>
                </a:solidFill>
                <a:latin typeface="HY견명조"/>
              </a:rPr>
              <a:t>* [(100+</a:t>
            </a:r>
            <a:r>
              <a:rPr b="1" lang="ko-KR" sz="1200" spc="-1" strike="noStrike">
                <a:solidFill>
                  <a:srgbClr val="433021"/>
                </a:solidFill>
                <a:latin typeface="HY견명조"/>
              </a:rPr>
              <a:t>사정율</a:t>
            </a:r>
            <a:r>
              <a:rPr b="1" lang="en-US" sz="1200" spc="-1" strike="noStrike">
                <a:solidFill>
                  <a:srgbClr val="433021"/>
                </a:solidFill>
                <a:latin typeface="HY견명조"/>
              </a:rPr>
              <a:t>)/100] * </a:t>
            </a:r>
            <a:r>
              <a:rPr b="1" lang="ko-KR" sz="1200" spc="-1" strike="noStrike">
                <a:solidFill>
                  <a:srgbClr val="433021"/>
                </a:solidFill>
                <a:latin typeface="HY견명조"/>
              </a:rPr>
              <a:t>만점투찰율</a:t>
            </a:r>
            <a:r>
              <a:rPr b="1" lang="en-US" sz="1200" spc="-1" strike="noStrike">
                <a:solidFill>
                  <a:srgbClr val="433021"/>
                </a:solidFill>
                <a:latin typeface="HY견명조"/>
              </a:rPr>
              <a:t>= </a:t>
            </a:r>
            <a:r>
              <a:rPr b="1" lang="ko-KR" sz="1200" spc="-1" strike="noStrike">
                <a:solidFill>
                  <a:srgbClr val="433021"/>
                </a:solidFill>
                <a:latin typeface="HY견명조"/>
              </a:rPr>
              <a:t>투찰금액</a:t>
            </a:r>
            <a:endParaRPr b="0" lang="en-US" sz="12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(1)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기초금액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786,193,200 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으로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+0.987%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대로 투찰하고자 했을때 계산방법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786,193,200 * [(100%+0.987%)/100]=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예정금액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*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만점투찰율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=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투찰금액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100 % +0.987 % =100.987%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100.987 % /100=1.00987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1.00987  * 786,193,200=793,952,926.88 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값에서 소수점 첫째자리에서 절상을 합니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793,952,927 * 87.745%=696,653,995.79 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값에서 소수점 첫째자리에서 절상을 하면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696,653,996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이 투찰하고자 하는 금액입니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물론 만점투찰율 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87.745% 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는 공사규모별로 다르기때문에 공사규모에 적용되는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87.745% 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또는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86.745% 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투찰율을 곱해 산정합니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(2)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반대로  기초금액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786,193,200 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으로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-0.987%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대로 투찰하고자 했을때 계산방법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786,193,200 * [(100</a:t>
            </a:r>
            <a:r>
              <a:rPr b="0" lang="en-US" sz="900" spc="-1" strike="noStrike">
                <a:solidFill>
                  <a:srgbClr val="433021"/>
                </a:solidFill>
                <a:latin typeface="Georgia"/>
              </a:rPr>
              <a:t> %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-0.987</a:t>
            </a:r>
            <a:r>
              <a:rPr b="0" lang="en-US" sz="900" spc="-1" strike="noStrike">
                <a:solidFill>
                  <a:srgbClr val="433021"/>
                </a:solidFill>
                <a:latin typeface="Georgia"/>
              </a:rPr>
              <a:t> %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)/100]=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예정금액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*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만점투찰율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=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투찰금액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100</a:t>
            </a:r>
            <a:r>
              <a:rPr b="0" lang="en-US" sz="900" spc="-1" strike="noStrike">
                <a:solidFill>
                  <a:srgbClr val="433021"/>
                </a:solidFill>
                <a:latin typeface="Georgia"/>
              </a:rPr>
              <a:t> %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-0.987</a:t>
            </a:r>
            <a:r>
              <a:rPr b="0" lang="en-US" sz="900" spc="-1" strike="noStrike">
                <a:solidFill>
                  <a:srgbClr val="433021"/>
                </a:solidFill>
                <a:latin typeface="Georgia"/>
              </a:rPr>
              <a:t> %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=99.013</a:t>
            </a:r>
            <a:r>
              <a:rPr b="0" lang="en-US" sz="900" spc="-1" strike="noStrike">
                <a:solidFill>
                  <a:srgbClr val="433021"/>
                </a:solidFill>
                <a:latin typeface="Georgia"/>
              </a:rPr>
              <a:t> %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99.013</a:t>
            </a:r>
            <a:r>
              <a:rPr b="0" lang="en-US" sz="900" spc="-1" strike="noStrike">
                <a:solidFill>
                  <a:srgbClr val="433021"/>
                </a:solidFill>
                <a:latin typeface="Georgia"/>
              </a:rPr>
              <a:t> %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/100=0.99013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0.99013 * 786,193,200=778,433,473,11 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값에서 소수점 첫째자리에서 절상을 합니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778,433,474 * 87.745%=683,036,45.76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값에서 소수점 첫째자리에서 절상을 하면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683,036,452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가 투찰하고자 하는 금액입니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3120" y="285840"/>
            <a:ext cx="85550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6.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투찰금액 구하는 방법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285840" y="7142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이번엔 사정율 구하는 방법입니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사정율은 기초금액을 기준으로 해서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±3%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내에서 투찰을 하는데 투찰 사정율을 말합니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그럼 다음을 보고 이해 하도록 하겠습니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33021"/>
                </a:solidFill>
                <a:latin typeface="HY견명조"/>
              </a:rPr>
              <a:t>(</a:t>
            </a:r>
            <a:r>
              <a:rPr b="1" lang="ko-KR" sz="1200" spc="-1" strike="noStrike">
                <a:solidFill>
                  <a:srgbClr val="433021"/>
                </a:solidFill>
                <a:latin typeface="HY견명조"/>
              </a:rPr>
              <a:t>예정금액</a:t>
            </a:r>
            <a:r>
              <a:rPr b="1" lang="en-US" sz="1200" spc="-1" strike="noStrike">
                <a:solidFill>
                  <a:srgbClr val="433021"/>
                </a:solidFill>
                <a:latin typeface="HY견명조"/>
              </a:rPr>
              <a:t>÷</a:t>
            </a:r>
            <a:r>
              <a:rPr b="1" lang="ko-KR" sz="1200" spc="-1" strike="noStrike">
                <a:solidFill>
                  <a:srgbClr val="433021"/>
                </a:solidFill>
                <a:latin typeface="HY견명조"/>
              </a:rPr>
              <a:t>기초금액</a:t>
            </a:r>
            <a:r>
              <a:rPr b="1" lang="en-US" sz="1200" spc="-1" strike="noStrike">
                <a:solidFill>
                  <a:srgbClr val="433021"/>
                </a:solidFill>
                <a:latin typeface="HY견명조"/>
              </a:rPr>
              <a:t>)×100-100</a:t>
            </a:r>
            <a:r>
              <a:rPr b="0" lang="ko-KR" sz="1200" spc="-1" strike="noStrike">
                <a:solidFill>
                  <a:srgbClr val="433021"/>
                </a:solidFill>
                <a:latin typeface="HY견명조"/>
              </a:rPr>
              <a:t> </a:t>
            </a:r>
            <a:r>
              <a:rPr b="0" lang="en-US" sz="1200" spc="-1" strike="noStrike">
                <a:solidFill>
                  <a:srgbClr val="433021"/>
                </a:solidFill>
                <a:latin typeface="HY견명조"/>
              </a:rPr>
              <a:t>=</a:t>
            </a:r>
            <a:r>
              <a:rPr b="1" lang="ko-KR" sz="1200" spc="-1" strike="noStrike">
                <a:solidFill>
                  <a:srgbClr val="433021"/>
                </a:solidFill>
                <a:latin typeface="HY견명조"/>
              </a:rPr>
              <a:t> </a:t>
            </a:r>
            <a:r>
              <a:rPr b="1" lang="ko-KR" sz="1200" spc="-1" strike="noStrike">
                <a:solidFill>
                  <a:srgbClr val="433021"/>
                </a:solidFill>
                <a:latin typeface="HY견명조"/>
              </a:rPr>
              <a:t>사정율</a:t>
            </a:r>
            <a:endParaRPr b="0" lang="en-US" sz="12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예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1)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70c0"/>
                </a:solidFill>
                <a:latin typeface="Georgia"/>
              </a:rPr>
              <a:t>기 초 금 액 </a:t>
            </a:r>
            <a:r>
              <a:rPr b="0" lang="en-US" sz="900" spc="-1" strike="noStrike">
                <a:solidFill>
                  <a:srgbClr val="0070c0"/>
                </a:solidFill>
                <a:latin typeface="Georgia"/>
              </a:rPr>
              <a:t>:192,999,240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70c0"/>
                </a:solidFill>
                <a:latin typeface="Georgia"/>
              </a:rPr>
              <a:t>예 정 가 격 </a:t>
            </a:r>
            <a:r>
              <a:rPr b="0" lang="en-US" sz="900" spc="-1" strike="noStrike">
                <a:solidFill>
                  <a:srgbClr val="0070c0"/>
                </a:solidFill>
                <a:latin typeface="Georgia"/>
              </a:rPr>
              <a:t>:190,085,360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Georgia"/>
              </a:rPr>
              <a:t>한 발주처에서 기초금액은 </a:t>
            </a:r>
            <a:r>
              <a:rPr b="0" lang="en-US" sz="900" spc="-1" strike="noStrike">
                <a:solidFill>
                  <a:srgbClr val="433021"/>
                </a:solidFill>
                <a:latin typeface="Georgia"/>
              </a:rPr>
              <a:t>192,999,240 </a:t>
            </a:r>
            <a:r>
              <a:rPr b="0" lang="ko-KR" sz="900" spc="-1" strike="noStrike">
                <a:solidFill>
                  <a:srgbClr val="433021"/>
                </a:solidFill>
                <a:latin typeface="Georgia"/>
              </a:rPr>
              <a:t>이고 개찰결과시 </a:t>
            </a:r>
            <a:r>
              <a:rPr b="0" lang="en-US" sz="900" spc="-1" strike="noStrike">
                <a:solidFill>
                  <a:srgbClr val="433021"/>
                </a:solidFill>
                <a:latin typeface="Georgia"/>
              </a:rPr>
              <a:t>15</a:t>
            </a:r>
            <a:r>
              <a:rPr b="0" lang="ko-KR" sz="900" spc="-1" strike="noStrike">
                <a:solidFill>
                  <a:srgbClr val="433021"/>
                </a:solidFill>
                <a:latin typeface="Georgia"/>
              </a:rPr>
              <a:t>예가 조합시 예정가격이 </a:t>
            </a:r>
            <a:r>
              <a:rPr b="0" lang="en-US" sz="900" spc="-1" strike="noStrike">
                <a:solidFill>
                  <a:srgbClr val="433021"/>
                </a:solidFill>
                <a:latin typeface="Georgia"/>
              </a:rPr>
              <a:t>190,085,360 </a:t>
            </a:r>
            <a:r>
              <a:rPr b="0" lang="ko-KR" sz="900" spc="-1" strike="noStrike">
                <a:solidFill>
                  <a:srgbClr val="433021"/>
                </a:solidFill>
                <a:latin typeface="Georgia"/>
              </a:rPr>
              <a:t>이 발표되었을때 사정율을 알아보겠습니다</a:t>
            </a:r>
            <a:r>
              <a:rPr b="0" lang="en-US" sz="900" spc="-1" strike="noStrike">
                <a:solidFill>
                  <a:srgbClr val="433021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190,085,360(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예정금액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)÷192,999,240(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기초금액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)=0.98490211671..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0.98490211671..×100=98.4902111671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98.4902111671-100=-1.509788329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-1.509788329  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사정율인데요 보통 소수점 넷째짜리까지 표현을 합니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∴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-1.5097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이 됩니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다시 한번 계산해보도록 하겠습니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예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2)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70c0"/>
                </a:solidFill>
                <a:latin typeface="HY견명조"/>
              </a:rPr>
              <a:t>기 초 금 액 </a:t>
            </a:r>
            <a:r>
              <a:rPr b="0" lang="en-US" sz="900" spc="-1" strike="noStrike">
                <a:solidFill>
                  <a:srgbClr val="0070c0"/>
                </a:solidFill>
                <a:latin typeface="HY견명조"/>
              </a:rPr>
              <a:t>:192,999,240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70c0"/>
                </a:solidFill>
                <a:latin typeface="HY견명조"/>
              </a:rPr>
              <a:t>예 정 가 격 </a:t>
            </a:r>
            <a:r>
              <a:rPr b="0" lang="en-US" sz="900" spc="-1" strike="noStrike">
                <a:solidFill>
                  <a:srgbClr val="0070c0"/>
                </a:solidFill>
                <a:latin typeface="HY견명조"/>
              </a:rPr>
              <a:t>:191,585,360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Georgia"/>
              </a:rPr>
              <a:t>이번엔  발주처에서 기초금액은 </a:t>
            </a:r>
            <a:r>
              <a:rPr b="0" lang="en-US" sz="900" spc="-1" strike="noStrike">
                <a:solidFill>
                  <a:srgbClr val="433021"/>
                </a:solidFill>
                <a:latin typeface="Georgia"/>
              </a:rPr>
              <a:t>192,999,240 </a:t>
            </a:r>
            <a:r>
              <a:rPr b="0" lang="ko-KR" sz="900" spc="-1" strike="noStrike">
                <a:solidFill>
                  <a:srgbClr val="433021"/>
                </a:solidFill>
                <a:latin typeface="Georgia"/>
              </a:rPr>
              <a:t>이고 개찰결과시 </a:t>
            </a:r>
            <a:r>
              <a:rPr b="0" lang="en-US" sz="900" spc="-1" strike="noStrike">
                <a:solidFill>
                  <a:srgbClr val="433021"/>
                </a:solidFill>
                <a:latin typeface="Georgia"/>
              </a:rPr>
              <a:t>15</a:t>
            </a:r>
            <a:r>
              <a:rPr b="0" lang="ko-KR" sz="900" spc="-1" strike="noStrike">
                <a:solidFill>
                  <a:srgbClr val="433021"/>
                </a:solidFill>
                <a:latin typeface="Georgia"/>
              </a:rPr>
              <a:t>예가 조합시 예정가격이 </a:t>
            </a:r>
            <a:r>
              <a:rPr b="0" lang="en-US" sz="900" spc="-1" strike="noStrike">
                <a:solidFill>
                  <a:srgbClr val="433021"/>
                </a:solidFill>
                <a:latin typeface="Georgia"/>
              </a:rPr>
              <a:t>191,585,360</a:t>
            </a:r>
            <a:r>
              <a:rPr b="0" lang="ko-KR" sz="900" spc="-1" strike="noStrike">
                <a:solidFill>
                  <a:srgbClr val="433021"/>
                </a:solidFill>
                <a:latin typeface="Georgia"/>
              </a:rPr>
              <a:t>이 발표되었을때 사정율을 알아보겠습니다</a:t>
            </a:r>
            <a:r>
              <a:rPr b="0" lang="en-US" sz="900" spc="-1" strike="noStrike">
                <a:solidFill>
                  <a:srgbClr val="433021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191,585,360 ÷ 192,999,240=0.99267416804...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0.99267416804...×100=99.267416804 ..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99.267416804..-100=-0.732583196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433021"/>
              </a:buClr>
              <a:buSzPct val="70000"/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-0.732583196 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사정율인데요 그냥 소숫점 다섯째자리에서 반올림하면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∴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-0.7326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이 됩니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3120" y="285840"/>
            <a:ext cx="85550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7.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사정율 계산하기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285840" y="7142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①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공사예정금액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:(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추정가격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+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부가세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+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관급자재대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   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입찰 또는 계약체결 전에 낙찰자 및 계약금액의 결정기준으로 삼기 위하여 미리 작성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․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비치하여 두는 가액으로서 국가계약법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    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제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8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조의 규정에 의하여 작성된 가격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②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추정가격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:(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공사예정금액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-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부가세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-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관급자재대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)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보통 기초금액에서 부가가치세 금액을 빼면 된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. 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국제입찰 대상여부를 판단하는 기준 등으로 삼기 위하여 예정가격이 결정되기 전에 예산에 계상된 금액등을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기준하여 부가가치세 및 조달수수료를 제외한 금액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추정가격은 공사규모를 나타내주는 금액이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.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추정가격이 얼마나 되는 냐에따라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억미만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, 20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억미만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,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50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억미만공사규모가 정해진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③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추정금액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추정가격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+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관급자재대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공사에 있어서 국가계약법시행령 제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2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조 제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호의 규정에 의한 추정가격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부가가치세 제외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에 관급재료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도급자설치 관급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로 공급될 부분의 가격을 합한 금액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추정가격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부가가치세 제외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과 도급자설치 관급자재 대가를 합산한 금액으로서 조달청 등급별 유자격자명부등록 및 운용기준과 시공능력공시액에 의한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입찰시 참가자격 등의 기준으로 활용함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④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기초금액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조달청에서 조사한 당해공사의 공사금액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관급자재 대가 불포함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으로서 예비가격작성의 기초금액 및적격심사의 시공경험 평가 기준금액 산정에 활용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기초금액으로 만점투찰율을 적용시켜서 투찰을 한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⑤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사정율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투찰한 범위를 나타내준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사정율은 기초금액을 기준으로해서 행자부는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+3~-3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범위이고 조달청기준은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+2~-2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범위이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⑥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예정가격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기초금액을 기준으로 해서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개 예비가격을 만든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. 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보통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예가라 하고 이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개중에 네 개를 추첨하여 추첨된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개를 산술평균한값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예정가격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)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으로 낙찰자를 결정을 한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개중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개를 추첨을 하는데 만들어지는 값은 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1365</a:t>
            </a:r>
            <a:r>
              <a:rPr b="0" lang="ko-KR" sz="900" spc="-1" strike="noStrike">
                <a:solidFill>
                  <a:srgbClr val="433021"/>
                </a:solidFill>
                <a:latin typeface="HY견명조"/>
              </a:rPr>
              <a:t>가지이다</a:t>
            </a: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3021"/>
                </a:solidFill>
                <a:latin typeface="HY견명조"/>
              </a:rPr>
              <a:t> </a:t>
            </a: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33021"/>
              </a:solidFill>
              <a:latin typeface="Georgi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3120" y="285840"/>
            <a:ext cx="85550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기본 용어 해석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357120" y="5429160"/>
          <a:ext cx="2857680" cy="741600"/>
        </p:xfrm>
        <a:graphic>
          <a:graphicData uri="http://schemas.openxmlformats.org/drawingml/2006/table">
            <a:tbl>
              <a:tblPr/>
              <a:tblGrid>
                <a:gridCol w="1633680"/>
                <a:gridCol w="1224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*14*13*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=1,3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*2*3*4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6435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만점투찰율 구하는 방법</a:t>
            </a:r>
            <a:r>
              <a:rPr b="0" lang="ko-KR" sz="1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642960" y="2571840"/>
          <a:ext cx="5929200" cy="500040"/>
        </p:xfrm>
        <a:graphic>
          <a:graphicData uri="http://schemas.openxmlformats.org/drawingml/2006/table">
            <a:tbl>
              <a:tblPr/>
              <a:tblGrid>
                <a:gridCol w="949320"/>
                <a:gridCol w="100080"/>
                <a:gridCol w="220680"/>
                <a:gridCol w="971280"/>
                <a:gridCol w="209880"/>
                <a:gridCol w="1085760"/>
                <a:gridCol w="801720"/>
                <a:gridCol w="1590480"/>
              </a:tblGrid>
              <a:tr h="249120"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90-20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입찰가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)×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＝ 입찰가격점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예정가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2" name="Rectangle 2"/>
          <p:cNvSpPr/>
          <p:nvPr/>
        </p:nvSpPr>
        <p:spPr>
          <a:xfrm>
            <a:off x="428760" y="789840"/>
            <a:ext cx="778644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전반적인 교육하기에 앞서서 만점투찰율 구하는 방법에 대해서 설명해 드리도록 하겠습니다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 부분을 잘 이해 한다면 반 이상은 배우게 됩니다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거의 모든 공사규모별 입찰가격산식에는 아래와 같은 내용이 있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아래내용은 꼭 있으시기 바랍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HY견명조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HY견명조"/>
              </a:rPr>
              <a:t>｜｜는 절대값 표시이다</a:t>
            </a:r>
            <a:r>
              <a:rPr b="1" lang="ko-KR" sz="900" spc="-1" strike="noStrike">
                <a:solidFill>
                  <a:srgbClr val="000000"/>
                </a:solidFill>
                <a:latin typeface="HY견명조"/>
              </a:rPr>
              <a:t>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HY견명조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HY견명조"/>
              </a:rPr>
              <a:t>입찰가격을 예정가격으로 나눈 결과 소수점이하는 소수점 다섯째자리에서 반올림하여 평가한다</a:t>
            </a:r>
            <a:r>
              <a:rPr b="1" lang="ko-KR" sz="900" spc="-1" strike="noStrike">
                <a:solidFill>
                  <a:srgbClr val="000000"/>
                </a:solidFill>
                <a:latin typeface="HY견명조"/>
              </a:rPr>
              <a:t>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HY견명조"/>
              </a:rPr>
              <a:t>- 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HY견명조"/>
              </a:rPr>
              <a:t>입찰가격이 예정가격이하로서 예정가격의 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HY견명조"/>
              </a:rPr>
              <a:t>100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HY견명조"/>
              </a:rPr>
              <a:t>분의 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HY견명조"/>
              </a:rPr>
              <a:t>88.25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HY견명조"/>
              </a:rPr>
              <a:t>이상인 경우의 평점은 </a:t>
            </a:r>
            <a:r>
              <a:rPr b="1" lang="ko-KR" sz="900" spc="-1" strike="noStrike" u="sng">
                <a:solidFill>
                  <a:srgbClr val="ff0000"/>
                </a:solidFill>
                <a:uFillTx/>
                <a:latin typeface="HY견명조"/>
              </a:rPr>
              <a:t>85</a:t>
            </a:r>
            <a:r>
              <a:rPr b="1" lang="ko-KR" sz="900" spc="-1" strike="noStrike" u="sng">
                <a:solidFill>
                  <a:srgbClr val="ff0000"/>
                </a:solidFill>
                <a:uFillTx/>
                <a:latin typeface="HY견명조"/>
              </a:rPr>
              <a:t>점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HY견명조"/>
              </a:rPr>
              <a:t>으로 한다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HY견명조"/>
              </a:rPr>
              <a:t>.</a:t>
            </a:r>
            <a:r>
              <a:rPr b="0" lang="ko-KR" sz="900" spc="-1" strike="noStrike" u="sng">
                <a:solidFill>
                  <a:srgbClr val="000000"/>
                </a:solidFill>
                <a:uFillTx/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직사각형 4"/>
          <p:cNvSpPr/>
          <p:nvPr/>
        </p:nvSpPr>
        <p:spPr>
          <a:xfrm>
            <a:off x="428760" y="3214800"/>
            <a:ext cx="764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찰가격 점수를 구하는 공식은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" 90 - 20 * l ( 88/100 –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찰가격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예정가격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* 100  =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찰가격점수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"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의 내용에서 입찰가격점수는 </a:t>
            </a:r>
            <a:r>
              <a:rPr b="1" lang="en-US" sz="900" spc="-1" strike="noStrike">
                <a:solidFill>
                  <a:srgbClr val="ff0000"/>
                </a:solidFill>
                <a:latin typeface="HY견명조"/>
              </a:rPr>
              <a:t>85</a:t>
            </a:r>
            <a:r>
              <a:rPr b="1" lang="ko-KR" sz="900" spc="-1" strike="noStrike">
                <a:solidFill>
                  <a:srgbClr val="ff0000"/>
                </a:solidFill>
                <a:latin typeface="HY견명조"/>
              </a:rPr>
              <a:t>점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위 산식을 풀이하면 아래와 같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위 산식대로 계산해 보면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20*88)=1,760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,760-90=1,670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,670+85=1,755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,755/2,000=0.8775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가 나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.87745*100=87.745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     </a:t>
            </a:r>
            <a:r>
              <a:rPr b="0" lang="ko-KR" sz="900" spc="-1" strike="noStrike">
                <a:solidFill>
                  <a:srgbClr val="ff0000"/>
                </a:solidFill>
                <a:latin typeface="HY견명조"/>
              </a:rPr>
              <a:t>여기서 주의할 점이 있습니다</a:t>
            </a:r>
            <a:r>
              <a:rPr b="0" lang="en-US" sz="900" spc="-1" strike="noStrike">
                <a:solidFill>
                  <a:srgbClr val="ff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④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번째에서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.877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가 정확한 만점투찰율이 아니고 여기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.0000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을 빼줍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유는  입찰가격을 예정가격으로 나눈 결과 소수점이하는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소수점 다섯째자리에서 반올림하여 평가한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즉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7.75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나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7.74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로 계산하여도 입찰가격점수는 같기때문입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위 계산방법은 모든 공사에 기본 투찰율을 구할 수 있으므로 꼭 숙지하시기 바랍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571680" y="3900600"/>
          <a:ext cx="2571480" cy="457200"/>
        </p:xfrm>
        <a:graphic>
          <a:graphicData uri="http://schemas.openxmlformats.org/drawingml/2006/table">
            <a:tbl>
              <a:tblPr/>
              <a:tblGrid>
                <a:gridCol w="257148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(20*88)-90+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2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6435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입찰가격점수 구하는 방법</a:t>
            </a:r>
            <a:r>
              <a:rPr b="0" lang="ko-KR" sz="1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642960" y="2571840"/>
          <a:ext cx="5929200" cy="500040"/>
        </p:xfrm>
        <a:graphic>
          <a:graphicData uri="http://schemas.openxmlformats.org/drawingml/2006/table">
            <a:tbl>
              <a:tblPr/>
              <a:tblGrid>
                <a:gridCol w="949320"/>
                <a:gridCol w="100080"/>
                <a:gridCol w="220680"/>
                <a:gridCol w="971280"/>
                <a:gridCol w="209880"/>
                <a:gridCol w="1085760"/>
                <a:gridCol w="801720"/>
                <a:gridCol w="1590480"/>
              </a:tblGrid>
              <a:tr h="249120"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90-20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입찰가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)×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＝ 입찰가격점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예정가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7" name="Rectangle 2"/>
          <p:cNvSpPr/>
          <p:nvPr/>
        </p:nvSpPr>
        <p:spPr>
          <a:xfrm>
            <a:off x="428760" y="789840"/>
            <a:ext cx="778644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번에 입찰가격점수 구하는 방법에  대해서 설명해 드리도록 하겠습니다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 부분을 적격심사에 기초가 되므로 꼭 이해하시기 바랍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거의 모든 공사규모별 입찰가격산식에는 아래와 같은 내용이 있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아래내용은 꼭 있으시기 바랍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HY견명조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HY견명조"/>
              </a:rPr>
              <a:t>｜｜는 절대값 표시이다</a:t>
            </a:r>
            <a:r>
              <a:rPr b="1" lang="ko-KR" sz="900" spc="-1" strike="noStrike">
                <a:solidFill>
                  <a:srgbClr val="000000"/>
                </a:solidFill>
                <a:latin typeface="HY견명조"/>
              </a:rPr>
              <a:t>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HY견명조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HY견명조"/>
              </a:rPr>
              <a:t>입찰가격을 예정가격으로 나눈 결과 소수점이하는 소수점 다섯째자리에서 반올림하여 평가한다</a:t>
            </a:r>
            <a:r>
              <a:rPr b="1" lang="ko-KR" sz="900" spc="-1" strike="noStrike">
                <a:solidFill>
                  <a:srgbClr val="000000"/>
                </a:solidFill>
                <a:latin typeface="HY견명조"/>
              </a:rPr>
              <a:t>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HY견명조"/>
              </a:rPr>
              <a:t>- 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HY견명조"/>
              </a:rPr>
              <a:t>입찰가격이 예정가격이하로서 예정가격의 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HY견명조"/>
              </a:rPr>
              <a:t>100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HY견명조"/>
              </a:rPr>
              <a:t>분의 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HY견명조"/>
              </a:rPr>
              <a:t>88.25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HY견명조"/>
              </a:rPr>
              <a:t>이상인 경우의 평점은 </a:t>
            </a:r>
            <a:r>
              <a:rPr b="1" lang="ko-KR" sz="900" spc="-1" strike="noStrike" u="sng">
                <a:solidFill>
                  <a:srgbClr val="ff0000"/>
                </a:solidFill>
                <a:uFillTx/>
                <a:latin typeface="HY견명조"/>
              </a:rPr>
              <a:t>85</a:t>
            </a:r>
            <a:r>
              <a:rPr b="1" lang="ko-KR" sz="900" spc="-1" strike="noStrike" u="sng">
                <a:solidFill>
                  <a:srgbClr val="ff0000"/>
                </a:solidFill>
                <a:uFillTx/>
                <a:latin typeface="HY견명조"/>
              </a:rPr>
              <a:t>점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HY견명조"/>
              </a:rPr>
              <a:t>으로 한다</a:t>
            </a:r>
            <a:r>
              <a:rPr b="1" lang="ko-KR" sz="900" spc="-1" strike="noStrike" u="sng">
                <a:solidFill>
                  <a:srgbClr val="000000"/>
                </a:solidFill>
                <a:uFillTx/>
                <a:latin typeface="HY견명조"/>
              </a:rPr>
              <a:t>.</a:t>
            </a:r>
            <a:r>
              <a:rPr b="0" lang="ko-KR" sz="900" spc="-1" strike="noStrike" u="sng">
                <a:solidFill>
                  <a:srgbClr val="000000"/>
                </a:solidFill>
                <a:uFillTx/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직사각형 4"/>
          <p:cNvSpPr/>
          <p:nvPr/>
        </p:nvSpPr>
        <p:spPr>
          <a:xfrm>
            <a:off x="428760" y="3143160"/>
            <a:ext cx="700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찰가격 점수를 구하는 공식은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" 90 - 20 * l ( 88/100 –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찰가격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예정가격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* 100  =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찰가격점수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"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의 내용에서 입찰가격점수는 </a:t>
            </a:r>
            <a:r>
              <a:rPr b="1" lang="en-US" sz="900" spc="-1" strike="noStrike">
                <a:solidFill>
                  <a:srgbClr val="ff0000"/>
                </a:solidFill>
                <a:latin typeface="HY견명조"/>
              </a:rPr>
              <a:t>85</a:t>
            </a:r>
            <a:r>
              <a:rPr b="1" lang="ko-KR" sz="900" spc="-1" strike="noStrike">
                <a:solidFill>
                  <a:srgbClr val="ff0000"/>
                </a:solidFill>
                <a:latin typeface="HY견명조"/>
              </a:rPr>
              <a:t>점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어떻게 해서 입찰가격 점수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이라는 점수가 나오는걸까요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전   투찰율구하는 방식에서 투찰율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.8774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라는것을 알 수 있었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즉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찰가격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예정가격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=0.8774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그러나 입찰가격을 예정가격으로 나눈결과 소수점이하는  소수점 다섯째자리에서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   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반올림하여 평가한다라고 명시되어있기때문에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.877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을 대입하여 입찰가격점수 계산을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위 산식대로 계산해 보면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0.88-0.8775)*100=0.25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*0.25=5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견명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90-5=85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위 계산방법을 숙지하신다면 개찰결과시 귀사의 입찰가격점수계산을 확인 할 수 있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물론 ㈜비드시스 개찰결과시 자동으로 귀사의 입찰가격점수를 보여드리고 있지만  계산방법을 알고 계신다면 많은 도움이 되실거라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생각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입찰가격점수구하는 방법에 꼭 이해하시고 숙지 하시기 바라며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모든공사의 적격심사기준의 기본이 되는 부분입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앞으로 단계별 교육을 게시하도록 하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6435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4.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경영상태평가 계산 방법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428760" y="716400"/>
            <a:ext cx="7786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지금부터는 경영상태평가 방법에 대해서  설명해 드릴 것입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밑에 보이는 그림은 가상업체에 대한 경영상태를 미리 뽑아 보았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계산방법은 매우 간단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그냥 분자 분모를 나누어 업체평균을 다시 나누어주기만 하면 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&gt;                                                                      *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업체평균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도 일반건설경영상태 평균비율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직사각형 4"/>
          <p:cNvSpPr/>
          <p:nvPr/>
        </p:nvSpPr>
        <p:spPr>
          <a:xfrm>
            <a:off x="500040" y="2500200"/>
            <a:ext cx="7000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●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비율 평균대비 구하는 방법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314,081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총계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÷3,245,780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자기자본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0.096576....×100=9.67659...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 소수점 셋 째자리에서 절사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9.67÷172.23 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체평균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0.0561458×100=5.614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서 소숫점 셋 째자리에서 반올림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.614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셋째자리가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기때문에  반올림이 안되므로 </a:t>
            </a:r>
            <a:r>
              <a:rPr b="0" lang="en-US" sz="900" spc="-1" strike="noStrike">
                <a:solidFill>
                  <a:srgbClr val="ff0000"/>
                </a:solidFill>
                <a:latin typeface="Georgia"/>
              </a:rPr>
              <a:t>5.61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가 평균대비가 된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아래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&g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보면 부채비율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0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므로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 받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런 방법으로 부채비율이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0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냐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3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냐에 따라서 점수가 부여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만약 계산을 하여 평균대비가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6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미만이 나 올 경우는 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받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●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유동비율 평균대비 구하는 방법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비율 구하는 방법과 동일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,374,770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유동자산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÷136,181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유동부채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39.46784...×100=3,946.78405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 소수점 셋 째자리에서 절사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3,946.78÷138.14(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체평균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)=28.57087×100=2857.08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나온 값에서 소숫점 셋 째자리에서 반올림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857.08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셋째자리가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기 때문에 반올림이 되므로 </a:t>
            </a:r>
            <a:r>
              <a:rPr b="0" lang="en-US" sz="900" spc="-1" strike="noStrike">
                <a:solidFill>
                  <a:srgbClr val="ff0000"/>
                </a:solidFill>
                <a:latin typeface="Georgia"/>
              </a:rPr>
              <a:t>2857.09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가 계산 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표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&gt;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에서 유동비율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10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상이면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받으므로 이 업체는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2191.08 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즉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100%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상이기 때문에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점을 받을 수 있습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※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체평균은 공종별로 비율이 틀림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업종별 가중 평가 비율표를 참고하셔서 해당 공종평균비율을 입력하여 계산하시기 바랍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500040" y="1500120"/>
          <a:ext cx="5943600" cy="943200"/>
        </p:xfrm>
        <a:graphic>
          <a:graphicData uri="http://schemas.openxmlformats.org/drawingml/2006/table">
            <a:tbl>
              <a:tblPr/>
              <a:tblGrid>
                <a:gridCol w="743040"/>
                <a:gridCol w="743040"/>
                <a:gridCol w="742680"/>
                <a:gridCol w="743040"/>
                <a:gridCol w="743040"/>
                <a:gridCol w="743040"/>
                <a:gridCol w="742680"/>
                <a:gridCol w="743040"/>
              </a:tblGrid>
              <a:tr h="1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심사항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가요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가자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A/B(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업체평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균대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평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부채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부채총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314,0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9.6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72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5.6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5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자기자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3,245,7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유동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유동자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5,374,7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3946.7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38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857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5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유동부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36,1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5" name=""/>
          <p:cNvGraphicFramePr/>
          <p:nvPr/>
        </p:nvGraphicFramePr>
        <p:xfrm>
          <a:off x="285840" y="1539720"/>
          <a:ext cx="7429320" cy="2961000"/>
        </p:xfrm>
        <a:graphic>
          <a:graphicData uri="http://schemas.openxmlformats.org/drawingml/2006/table">
            <a:tbl>
              <a:tblPr/>
              <a:tblGrid>
                <a:gridCol w="1693800"/>
                <a:gridCol w="2521080"/>
                <a:gridCol w="928440"/>
                <a:gridCol w="1071720"/>
                <a:gridCol w="1214280"/>
              </a:tblGrid>
              <a:tr h="260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심 사 항 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평 가 요 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배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등   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평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.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최근년도 부채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  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타인자본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/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자기자본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)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업종별 평균 부채비율에 대한 해당업체의 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휴먼명조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휴먼명조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B. 13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C. 1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D. 19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E. 19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4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4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.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최근년도 유동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  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유동자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/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유동부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2)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업종별 평균 유동비율에 대한 해당업체 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휴먼명조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휴먼명조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B.  9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C.  8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D.  7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E.  7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4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4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TextBox 4"/>
          <p:cNvSpPr/>
          <p:nvPr/>
        </p:nvSpPr>
        <p:spPr>
          <a:xfrm>
            <a:off x="285840" y="28584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부채비율과 유동비율은 모든 공사의 기초 경영상태 평가입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공사규모별로 부채비율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유동비율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차입금 의존도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이자보상비율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매출액순이익율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총자산 순이익율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현금흐름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자산회전율 등 심사항목이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다양합니다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ko-KR" sz="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&lt;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표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&gt;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직사각형 5"/>
          <p:cNvSpPr/>
          <p:nvPr/>
        </p:nvSpPr>
        <p:spPr>
          <a:xfrm>
            <a:off x="285840" y="4786200"/>
            <a:ext cx="7429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앞으로 부족한 부분은 교육하면서 보완해 나 갈 것이며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공사규모별 적격심사 또는 기본적으로 알아야 할 부분에 대해서 설명 해드리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다음은 시공경험부분으로 공사규모별로 한 업체가 실적이 얼마나 갖고 있느냐에 따라점수가 부여되는 부분에 대해서 설명해 드리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64352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5.</a:t>
            </a:r>
            <a:r>
              <a:rPr b="1" lang="ko-KR" sz="1400" spc="-1" strike="noStrike">
                <a:solidFill>
                  <a:srgbClr val="000000"/>
                </a:solidFill>
                <a:latin typeface="Georgia"/>
              </a:rPr>
              <a:t>시공경험평가방법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28760" y="732960"/>
            <a:ext cx="7786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은 한 업체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이 얼마나 갖고 있느냐에 따라서 점수가 달라집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은 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동안 공사실적을 말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동안 공사실적을 협회에 신고을 하면 협회에서 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동안 공사 실적을 발표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현재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이므로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200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20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신고된 실적을 말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반은매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전문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변경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평가는 지방자치단체적격기준에서은 모든 규모의 공사에 시공경험을 평가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발표된 적격기준이전에는 추정가격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원미만은 시공평가를 하지 않았으나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이후에는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모든 공사에 시공평가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지금부터 평가방법에 대해서 말씀 드리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시공경험평가는 매우 간단하기는 하지만 조금 헷갈려 하는 분들이 많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공사규모에 따라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배수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배수이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.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배수이냐  또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이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이냐 차이지 큰 어려움은 없다고 생각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그리고 제가 교육하는 적격심사는 행정안전부로 하고 있지만 조달청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한국농촌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한국도로공사 등 여러 적격심사가 있는데 그 심사기준에 따라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추정가격으로 평가를 하느냐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기초금액으로 하는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예정금액으로 하느냐 설계금액으로 하느냐가 다릅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그런 부분은 행자부 기준만 알고 있으면 다 평가를 할 수 있기 때문에 행자부 기준으로 교육을 하겠으며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단계별로 발주처교육도 시행하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아래 표는 일반건설 추정가격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원미만의 시공경험 평가입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다음과 같이 실적인정기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 또는 실적인정기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에 따라 등급의 차이가 있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500040" y="5286240"/>
          <a:ext cx="5667480" cy="1047960"/>
        </p:xfrm>
        <a:graphic>
          <a:graphicData uri="http://schemas.openxmlformats.org/drawingml/2006/table">
            <a:tbl>
              <a:tblPr/>
              <a:tblGrid>
                <a:gridCol w="1490760"/>
                <a:gridCol w="1492200"/>
                <a:gridCol w="671400"/>
                <a:gridCol w="669960"/>
                <a:gridCol w="671400"/>
                <a:gridCol w="671760"/>
              </a:tblGrid>
              <a:tr h="21456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구    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평가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실적인정기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년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실적인정기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년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점    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428760" y="383400"/>
            <a:ext cx="7786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실적인정기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은 관련협회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신고된 실적으로만 평가받고자 할 경우에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으로 평가를 하고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실적인정기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은 관련협회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신고된 실적 과 준공된 실적으로 합계로 평가받고자 할 경우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으로 평가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잘 이해안되시죠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더 자세히 설명드리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도는  일반적으로 관련협회에 신고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0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0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으로 평가를 하는데 귀사가 만약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도에 준공된 공사가 있을경우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준공된 실적도 포함시켜서 평가받을 수 있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예를 들어보면  가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업체가 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도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이고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이후 준공된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이라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+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준공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=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 으로 평가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받을 수 있다는 내용입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그런데 여기서 주의 할 점이 있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라 함은 일수도 따진다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6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입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그렇다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6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 안된다는 말이겠죠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그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+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당해년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까지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이 되겠죠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?   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까지면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 딱 되잖아요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그럼 위 내용을 요약을 해보면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미만 평가시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: 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관련협회에 신고된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실적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(05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, 06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, 07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)+ 08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월부터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~ 08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도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30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일까지 준공된 실적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이상 평가시 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: 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관련협회에 신고된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실적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(05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, 06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, 07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)+ 07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월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부터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~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09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월까지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일반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) 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또는 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6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월까지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ff"/>
                </a:solidFill>
                <a:latin typeface="HY견명조"/>
              </a:rPr>
              <a:t>전문</a:t>
            </a:r>
            <a:r>
              <a:rPr b="0" lang="en-US" sz="900" spc="-1" strike="noStrike">
                <a:solidFill>
                  <a:srgbClr val="0000ff"/>
                </a:solidFill>
                <a:latin typeface="HY견명조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반건설은 매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에 실적발표를 하고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전문건설은 매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에 실적발표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그럼으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 평가시에는 관련협회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실적이 발표되기 이전공사까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으로 평가를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9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도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06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, 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발표를 하면  또다시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09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까지 준공된 실적으로 평가하므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으로 평가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그렇다면 현재 날짜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이라고 가정했을때 모든 업체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으로 평가를 받고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이후에는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으로 평가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28760" y="36036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다시 처음으로 돌아와서 시공경험평가를 해보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추정가격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원미만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원이상 시공경험평가시에는  추정가격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원미만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억원이상의 평기준을 따릅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당해공사 추정가격에 해당업종 평가비율을 곱한 금액 대비 최근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 당해공사와 동일한 평가대상 업종별 실적금액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발주기관의 관급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지급자재비는 제외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의 비율로 다음과 같이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수를 산정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현재기간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이라고 가정했을때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7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이후  준공된 공사가 없을경우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으로 평가를 하고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만약 준공된 실적으로 평가받고자 하다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으로 평가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500040" y="1857240"/>
          <a:ext cx="5667480" cy="1047960"/>
        </p:xfrm>
        <a:graphic>
          <a:graphicData uri="http://schemas.openxmlformats.org/drawingml/2006/table">
            <a:tbl>
              <a:tblPr/>
              <a:tblGrid>
                <a:gridCol w="1490760"/>
                <a:gridCol w="1492200"/>
                <a:gridCol w="671400"/>
                <a:gridCol w="669960"/>
                <a:gridCol w="671400"/>
                <a:gridCol w="671760"/>
              </a:tblGrid>
              <a:tr h="21456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구    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등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평가비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실적인정기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년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6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실적인정기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년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이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미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점    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4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3" name="TextBox 7"/>
          <p:cNvSpPr/>
          <p:nvPr/>
        </p:nvSpPr>
        <p:spPr>
          <a:xfrm>
            <a:off x="428760" y="2928960"/>
            <a:ext cx="8286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지자체에서는 시공경험평가는 추정가격기준으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을 평가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밑에 금액은 어느 발주처에서 나온 입찰공사입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축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8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 현재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0,000,0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을 가지고 있고 준공실적이 없을 경우 다음과 같이 평가를 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500040" y="3786120"/>
          <a:ext cx="3143160" cy="514440"/>
        </p:xfrm>
        <a:graphic>
          <a:graphicData uri="http://schemas.openxmlformats.org/drawingml/2006/table">
            <a:tbl>
              <a:tblPr/>
              <a:tblGrid>
                <a:gridCol w="1467000"/>
                <a:gridCol w="1676160"/>
              </a:tblGrid>
              <a:tr h="17136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예정금액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60,16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추정가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45,600,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</a:tr>
              <a:tr h="17136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기초금액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명조"/>
                        </a:rPr>
                        <a:t>160,16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TextBox 10"/>
          <p:cNvSpPr/>
          <p:nvPr/>
        </p:nvSpPr>
        <p:spPr>
          <a:xfrm>
            <a:off x="428760" y="4357800"/>
            <a:ext cx="8215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은 준공실적이 없으므로 실적인정기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미만으로 평가를 받기 때문에 추정가격대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0%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만 가지고 있습니다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등급을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80,000,000(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실적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÷145,600,000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추정가격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=0.54945*100=54.945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소숫점셋째자리에서 절사하여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4.94%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가 나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위 표를 보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0%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이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주기 때문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 시공경험 점수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이 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물론 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등급이냐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에 따라 점수는 틀려지겠지요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!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만약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009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25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이라고 가정했을때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축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간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60,000,0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고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2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월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31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일이후  현재까지 준공된 실적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15,000,000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라고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한다면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은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으로 평가를 받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(60,000,000+15,500,000)÷145,600,000=0.51854*100=51.854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소숫점 셋째자리에서 절사하여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1.85% 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므로 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건설은 실적인정기간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년이상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으로 평가비율을 따져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50%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이상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등급이므로 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점을 받게됩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견명조"/>
              </a:rPr>
              <a:t>다음 교육부터는 공사규모별로  평가하는 방법을 실시하도록 하겠습니다</a:t>
            </a:r>
            <a:r>
              <a:rPr b="0" lang="en-US" sz="900" spc="-1" strike="noStrike">
                <a:solidFill>
                  <a:srgbClr val="000000"/>
                </a:solidFill>
                <a:latin typeface="HY견명조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1:55:51Z</dcterms:created>
  <dc:creator>차승호</dc:creator>
  <dc:description/>
  <dc:language>en-US</dc:language>
  <cp:lastModifiedBy>정경인</cp:lastModifiedBy>
  <dcterms:modified xsi:type="dcterms:W3CDTF">2009-05-20T00:46:40Z</dcterms:modified>
  <cp:revision>53</cp:revision>
  <dc:subject/>
  <dc:title>만점투찰율구하는 방법과 입찰가격점수 구하는 방법  </dc:title>
</cp:coreProperties>
</file>