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C5EF-3DE1-45AA-8BCB-D1B98B63B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DFD4-7E62-4DC6-A9CE-14D6AFDE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0A00C3-4233-4FA5-B104-D07287A4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A662DF-411D-4806-AA0E-A8488E3C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508C0A-3679-4504-BD0A-7749CEA9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EB3B68-EFC7-42FF-B3A2-9DBA027E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0F4BC1-27D4-4B2F-BF21-7DFC1D31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5B5776-F877-4294-B8F2-E2E1A0DE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88FFDE-2EEF-49A1-9DED-D4FDD0EA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DC42BA-55EE-4302-8363-AD456EC23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665F96-C5DA-40B2-A78F-7B28FD6DF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23EBB6-10FD-4FE3-A5CC-A09120240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DB12-0B98-450E-BECD-66EBA8961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204AF4-5B18-4A69-AEF4-3D5E22A1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24EB7F-2166-4ADF-AB3D-9E67A028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948D63-E73A-466C-AECD-04158272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628C54-3ACE-43BA-A700-B0E55FD6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93369C-DE54-45D5-BB79-1BFD536E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732D00-7F08-431D-9095-145622C2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572CA1-E8A6-4EC4-95E9-12B9D985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35D31C-6342-4131-AECD-F80643CE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262581-8838-46B7-A618-761B571F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D6F5FA-F9E6-44D5-BE8D-7A4FDE361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E9DF-6532-464F-88C8-9020F26B7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68479C-E205-45EE-BB49-2CE0D406D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3C175-1871-47D4-88E6-DC293751D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B45E3-B8CC-4356-98C8-0218A99B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42B67-BC9F-42EE-8644-C395A2F3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51CA37-D7CC-4619-8E02-CADD7D09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509CC-CDDD-43D3-A1D4-D4AF5A52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84EFD1-F9B0-48EE-A135-D00F1A60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F7B118-821A-47B7-99AA-D3DA2BD7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5D8409-9511-4999-931A-8282E159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571226-3CA4-4ABA-9F62-5A92CC93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6641-09DD-482E-98B6-DD9CBCD54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A27278-4D6F-476B-B54A-F8F9BF3A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58E1E1-6F32-4B76-BB23-7C612AF5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5E53B-F543-48DE-8B79-875207C26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42CF-90DB-4B39-AF0B-5722A401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B89B6-D4ED-4CEE-B0D9-FC1F7163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926E-582E-46A2-8083-9E6E89AF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0DD1-8531-4A77-8F75-9D0F4642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50D2-37C4-4268-9E1D-6EF645C6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21A1F-6406-462C-9D76-76382D13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05FF-3C41-4994-B16E-946F4916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F10BE-6BE6-4902-8DD3-562C0FCB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80C3-D6A0-48B4-B428-8FBDD46A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3B1E3-C3D1-4DF9-B40B-BA290DE3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FA7A-4DD3-4F50-BA70-2F9242659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AC49-9DC3-434B-B8EC-7AFB9A835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C486C-4AD4-4A53-955D-592AB1647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5035A-A704-41DD-ABA5-CFD5CEFF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D8B5C-9984-4762-82E1-D1DFFB86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664CC-626F-4790-A9AB-7BFBFA67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FF4E6-1724-4F5C-A2D5-B71528AE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7436-CA1F-44CD-AA64-3B0BDA6C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B2F0B-E1B6-40A3-9A2D-DD2E4A56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D7A65-F832-4FC8-97F0-1F75E828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DE0DE-F046-4DC1-AC4F-18A7CD1F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92470-1544-45CA-8D0C-23D95CEF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0A1A9-EFC0-4ED4-B53D-E2F9A8EE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D1B80-9A2C-48A3-91E3-00F4AC318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9A0D7-C725-4BEA-8412-5DDE96F33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652035-AC53-4A19-8AEB-4AD40CAAB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DD4F20-BB8D-4056-A9D2-BCE7CF67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1FDC3F-57EE-4E67-81B5-1E46C32F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1BAD-195D-45D9-B24F-9DC147B8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05E762-4B9B-4BB8-8491-B5FAC2E5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33C027-F4E0-48D8-A76A-192BB7B9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C636A9-A052-4C54-BAAB-46911D68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0A7371-4330-4507-AF20-98D60325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F6797B-9E7D-403C-8976-224135F4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BCF2C2-A66D-47BD-9B5B-AF26E5C2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D48D17-515C-423F-B801-C8B29BA2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6D4FDC-3EA5-4449-B4C9-A4311BA2B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5F39DC-6E2E-4730-AF96-126C7E5DD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9F68E-357F-4F76-8A3A-22D31870A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29DE-E488-4179-9DD8-A43636DC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C3739-AD69-49B3-B525-9E7F6381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90D52-A88C-45DD-96BA-2674B56C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E46C3-7EE0-448C-9259-FB5B0DFE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61081-4B01-4C2B-9FDB-168DD0DF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16F43-47D8-415E-8115-CD1FE69E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00060-95EF-4F1A-9501-9F161F76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09BD7-0CF2-4CFE-AB94-E9CA3B4B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C7F4B-EB70-4449-B949-47CDAFAF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64D35-8258-4F90-A95C-0F7A3533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37290-CC9B-4782-AAD6-241282BB1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79E1-6127-45B5-82F3-01380F35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167FC-A524-4195-88D4-58A6010D5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0382C-034D-40CA-A930-91D91F0AE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47977-D24A-4EE0-843A-2E890504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261CE-E5D3-4238-82B6-78882AC7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2D07B-468C-4D85-BB7F-99883E38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88012-F8EC-4F67-BAF4-277F9DB7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8A50C-AAA4-4A43-912A-6C9BB8DB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525D4-555F-4AD3-B4BD-2CCDB1C7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00ED0-432B-45F5-9D20-CD1DF635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A5CDA-3744-483B-97AA-5B4B771E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98CC-DF64-46AF-9554-A2644A21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93DCD-0312-4292-B7DC-3AF1A1F5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9A636-6F62-4415-BA39-4B63B7DDD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CDCFB-7239-4D30-8792-2BB9844DA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BF48E-DF04-4417-A362-3CC7420B2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51C88-A913-47C9-8D31-EF8AD852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9505E-D781-4DD9-9994-1885C8EB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8DB44-B465-4A1E-845D-F0E01AAA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3634F-51D6-4542-AFCE-F507ABD1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D6C8E-2A08-4A96-AE0D-94FB025F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3CD43-2E06-4AAE-BD5D-01E31D85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0C42-2D79-4E6D-90F0-3FC7FC0F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F72E1-BCCB-4101-A9AE-48823CBF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C3BDB-9836-4076-9013-C784B6FB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4CE1A-298C-4B6E-86E0-354EB0C9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9975D-0C60-404E-BFB2-C3C011DF5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B527D-AF8E-4FC3-A8B3-44B0BC518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649CB-CB91-4814-9CB4-275136F12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7CC9A-1CF8-4303-A315-0418C935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DCC93-4049-47F3-B8D9-5CE1908F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A782D-45BA-49D5-BC19-E963F91C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84BD6-3949-4373-9F28-D9638F26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7855-89A5-4AEC-ACFE-1212FF3A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40A50-F006-4564-88E6-C8EEFB0C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8737F-909D-4879-A2D6-1CDDA0F8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EDD26-7D88-4A0F-A450-3B1CD875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8FF2F-37A2-4413-B0C1-D0E98039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990EE-39A6-4C40-B443-7594B016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E94E0-917C-4405-B272-16100E552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70110-CC8B-4A72-8F5E-013095ECD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23DE4C-9E70-4ADB-8A3C-C231D54EF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973B81-9132-4EB2-8F21-07D952F1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775210-3803-4DEB-888D-54A80346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57216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02A6-13C7-4F8E-A8EB-17DC8585BB7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00" name="직선 연결선 8" descr=""/>
          <p:cNvPicPr/>
          <p:nvPr/>
        </p:nvPicPr>
        <p:blipFill>
          <a:blip r:embed="rId3"/>
          <a:stretch/>
        </p:blipFill>
        <p:spPr>
          <a:xfrm>
            <a:off x="407880" y="1378080"/>
            <a:ext cx="8315280" cy="9684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8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9"/>
          </p:nvPr>
        </p:nvSpPr>
        <p:spPr>
          <a:xfrm>
            <a:off x="3124080" y="657216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30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205A-FB06-4256-A9FD-B4DC0C1958A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3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직사각형 8"/>
          <p:cNvSpPr/>
          <p:nvPr/>
        </p:nvSpPr>
        <p:spPr>
          <a:xfrm>
            <a:off x="7643880" y="-15840"/>
            <a:ext cx="1500120" cy="6858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31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32"/>
          </p:nvPr>
        </p:nvSpPr>
        <p:spPr>
          <a:xfrm>
            <a:off x="3124080" y="657216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3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ED91-C080-4EEA-BD46-3C1AFFAA054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직사각형 8"/>
          <p:cNvSpPr/>
          <p:nvPr/>
        </p:nvSpPr>
        <p:spPr>
          <a:xfrm>
            <a:off x="428760" y="0"/>
            <a:ext cx="8286480" cy="6858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57216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8219-F89E-4577-9F3A-0ED3CD13ADB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직사각형 8"/>
          <p:cNvSpPr/>
          <p:nvPr/>
        </p:nvSpPr>
        <p:spPr>
          <a:xfrm>
            <a:off x="0" y="0"/>
            <a:ext cx="285840" cy="6858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57216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DFEC-94C2-416D-96F2-08D336D7024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직사각형 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34" name="직선 연결선 9" descr=""/>
          <p:cNvPicPr/>
          <p:nvPr/>
        </p:nvPicPr>
        <p:blipFill>
          <a:blip r:embed="rId2"/>
          <a:stretch/>
        </p:blipFill>
        <p:spPr>
          <a:xfrm>
            <a:off x="469800" y="4389480"/>
            <a:ext cx="7772400" cy="856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10"/>
          </p:nvPr>
        </p:nvSpPr>
        <p:spPr>
          <a:xfrm>
            <a:off x="3124080" y="657216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A18E-4164-4C80-A4B4-664C920A0F8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dt" idx="12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직사각형 8"/>
          <p:cNvSpPr/>
          <p:nvPr/>
        </p:nvSpPr>
        <p:spPr>
          <a:xfrm>
            <a:off x="0" y="285840"/>
            <a:ext cx="9144000" cy="1143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57216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7927-2508-454B-889C-CC6533C836D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직사각형 8"/>
          <p:cNvSpPr/>
          <p:nvPr/>
        </p:nvSpPr>
        <p:spPr>
          <a:xfrm>
            <a:off x="0" y="0"/>
            <a:ext cx="285840" cy="6858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직사각형 9"/>
          <p:cNvSpPr/>
          <p:nvPr/>
        </p:nvSpPr>
        <p:spPr>
          <a:xfrm>
            <a:off x="8859960" y="0"/>
            <a:ext cx="285480" cy="6858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57216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4CB9-DE44-478B-9DBA-BF9DAA0CAD2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직사각형 8"/>
          <p:cNvSpPr/>
          <p:nvPr/>
        </p:nvSpPr>
        <p:spPr>
          <a:xfrm>
            <a:off x="428760" y="0"/>
            <a:ext cx="8286480" cy="6858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3124080" y="657216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3609-FE44-4082-8B07-95B3B7D6DBD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직사각형 8"/>
          <p:cNvSpPr/>
          <p:nvPr/>
        </p:nvSpPr>
        <p:spPr>
          <a:xfrm>
            <a:off x="285840" y="263520"/>
            <a:ext cx="8858160" cy="665280"/>
          </a:xfrm>
          <a:prstGeom prst="rect">
            <a:avLst/>
          </a:prstGeom>
          <a:solidFill>
            <a:srgbClr val="3f3f3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직사각형 9"/>
          <p:cNvSpPr/>
          <p:nvPr/>
        </p:nvSpPr>
        <p:spPr>
          <a:xfrm>
            <a:off x="0" y="0"/>
            <a:ext cx="285840" cy="6858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3124080" y="657216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1146-B725-4562-B11D-641E103E4E0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직사각형 8"/>
          <p:cNvSpPr/>
          <p:nvPr/>
        </p:nvSpPr>
        <p:spPr>
          <a:xfrm>
            <a:off x="0" y="3571920"/>
            <a:ext cx="9144000" cy="32860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5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6"/>
          </p:nvPr>
        </p:nvSpPr>
        <p:spPr>
          <a:xfrm>
            <a:off x="3124080" y="657180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7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BC10-3AE5-420A-8623-DEF32B1424E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764352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ko-KR" sz="1400" spc="-1" strike="noStrike">
                <a:solidFill>
                  <a:srgbClr val="000000"/>
                </a:solidFill>
                <a:latin typeface="HY견명조"/>
              </a:rPr>
              <a:t>추정가격 </a:t>
            </a:r>
            <a:r>
              <a:rPr b="1" lang="en-US" sz="14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1" lang="ko-KR" sz="1400" spc="-1" strike="noStrike">
                <a:solidFill>
                  <a:srgbClr val="000000"/>
                </a:solidFill>
                <a:latin typeface="HY견명조"/>
              </a:rPr>
              <a:t>억원미만 </a:t>
            </a:r>
            <a:r>
              <a:rPr b="1" lang="en-US" sz="1400" spc="-1" strike="noStrike">
                <a:solidFill>
                  <a:srgbClr val="000000"/>
                </a:solidFill>
                <a:latin typeface="HY견명조"/>
              </a:rPr>
              <a:t>2</a:t>
            </a:r>
            <a:r>
              <a:rPr b="1" lang="ko-KR" sz="1400" spc="-1" strike="noStrike">
                <a:solidFill>
                  <a:srgbClr val="000000"/>
                </a:solidFill>
                <a:latin typeface="HY견명조"/>
              </a:rPr>
              <a:t>억원이상의 경쟁입찰공사 평가기준 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HY견명조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견명조"/>
              </a:rPr>
              <a:t>전기</a:t>
            </a:r>
            <a:r>
              <a:rPr b="1" lang="en-US" sz="1400" spc="-1" strike="noStrike">
                <a:solidFill>
                  <a:srgbClr val="000000"/>
                </a:solidFill>
                <a:latin typeface="HY견명조"/>
              </a:rPr>
              <a:t>·</a:t>
            </a:r>
            <a:r>
              <a:rPr b="1" lang="ko-KR" sz="1400" spc="-1" strike="noStrike">
                <a:solidFill>
                  <a:srgbClr val="000000"/>
                </a:solidFill>
                <a:latin typeface="HY견명조"/>
              </a:rPr>
              <a:t>정보통신</a:t>
            </a:r>
            <a:r>
              <a:rPr b="1" lang="en-US" sz="1400" spc="-1" strike="noStrike">
                <a:solidFill>
                  <a:srgbClr val="000000"/>
                </a:solidFill>
                <a:latin typeface="HY견명조"/>
              </a:rPr>
              <a:t>·</a:t>
            </a:r>
            <a:r>
              <a:rPr b="1" lang="ko-KR" sz="1400" spc="-1" strike="noStrike">
                <a:solidFill>
                  <a:srgbClr val="000000"/>
                </a:solidFill>
                <a:latin typeface="HY견명조"/>
              </a:rPr>
              <a:t>소방공사는 </a:t>
            </a:r>
            <a:r>
              <a:rPr b="1" lang="en-US" sz="1400" spc="-1" strike="noStrike">
                <a:solidFill>
                  <a:srgbClr val="000000"/>
                </a:solidFill>
                <a:latin typeface="HY견명조"/>
              </a:rPr>
              <a:t>1.5</a:t>
            </a:r>
            <a:r>
              <a:rPr b="1" lang="ko-KR" sz="1400" spc="-1" strike="noStrike">
                <a:solidFill>
                  <a:srgbClr val="000000"/>
                </a:solidFill>
                <a:latin typeface="HY견명조"/>
              </a:rPr>
              <a:t>억원미만</a:t>
            </a:r>
            <a:r>
              <a:rPr b="1" lang="en-US" sz="1400" spc="-1" strike="noStrike">
                <a:solidFill>
                  <a:srgbClr val="000000"/>
                </a:solidFill>
                <a:latin typeface="HY견명조"/>
              </a:rPr>
              <a:t>)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Rectangle 2"/>
          <p:cNvSpPr/>
          <p:nvPr/>
        </p:nvSpPr>
        <p:spPr>
          <a:xfrm>
            <a:off x="428760" y="1059840"/>
            <a:ext cx="778644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억원미만에서는  다음과같이 시공경험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  경영상태평가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  포함해서 총수행능력점수는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을 평가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HY견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HY견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수행능력 평가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1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HY견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.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시공경험평가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.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경영상태평가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경영상태평가방법에 의한 평가점수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×5/10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.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접근성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0.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입찰산식은 다음과 같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8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00040" y="4786200"/>
          <a:ext cx="5929200" cy="500040"/>
        </p:xfrm>
        <a:graphic>
          <a:graphicData uri="http://schemas.openxmlformats.org/drawingml/2006/table">
            <a:tbl>
              <a:tblPr/>
              <a:tblGrid>
                <a:gridCol w="949320"/>
                <a:gridCol w="100080"/>
                <a:gridCol w="220680"/>
                <a:gridCol w="971640"/>
                <a:gridCol w="209520"/>
                <a:gridCol w="1085760"/>
                <a:gridCol w="801720"/>
                <a:gridCol w="1590480"/>
              </a:tblGrid>
              <a:tr h="250920"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90-20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(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입찰가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)×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＝ 입찰가격점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예정가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428760" y="2143080"/>
          <a:ext cx="5667120" cy="1047960"/>
        </p:xfrm>
        <a:graphic>
          <a:graphicData uri="http://schemas.openxmlformats.org/drawingml/2006/table">
            <a:tbl>
              <a:tblPr/>
              <a:tblGrid>
                <a:gridCol w="1490400"/>
                <a:gridCol w="1492200"/>
                <a:gridCol w="671760"/>
                <a:gridCol w="669960"/>
                <a:gridCol w="671400"/>
                <a:gridCol w="671400"/>
              </a:tblGrid>
              <a:tr h="21420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구    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평가비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실적인정기간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4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년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6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5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4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4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실적인정기간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4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년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5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4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3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3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점    수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5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4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3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3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3" name="TextBox 10"/>
          <p:cNvSpPr/>
          <p:nvPr/>
        </p:nvSpPr>
        <p:spPr>
          <a:xfrm>
            <a:off x="428760" y="5429160"/>
            <a:ext cx="61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｜｜는 절대값 표시이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입찰가격을 예정가격으로 나눈 결과 소수점이하는 소수점 다섯째자리에서 반올림하여 평가한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○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입찰가격이 예정가격이하로서 예정가격의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0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분의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88.2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이상인 경우의 평점은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8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으로 한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○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최저평점은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으로 한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764352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1.</a:t>
            </a:r>
            <a:r>
              <a:rPr b="1" lang="ko-KR" sz="1400" spc="-1" strike="noStrike">
                <a:solidFill>
                  <a:srgbClr val="000000"/>
                </a:solidFill>
                <a:latin typeface="Georgia"/>
              </a:rPr>
              <a:t>시공경험평가방법</a:t>
            </a:r>
            <a:br>
              <a:rPr sz="4000"/>
            </a:b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Rectangle 2"/>
          <p:cNvSpPr/>
          <p:nvPr/>
        </p:nvSpPr>
        <p:spPr>
          <a:xfrm>
            <a:off x="428760" y="728640"/>
            <a:ext cx="7786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시공경험은 한 업체가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간 실적이 얼마나 갖고 있느냐에 따라서 점수가 달라집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간 실적은 최근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동안 공사실적을 말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동안 공사실적을 협회에 신고을 하면 협회에서 최근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동안 공사 실적을 발표를 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현재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008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2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이므로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최근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00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2006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2007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신고된 실적을 말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(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일반은매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6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전문은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7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 변경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시공경험평가는 지방자치단체적격기준에서은 모든 규모의 공사에 시공경험을 평가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006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7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일 발표된 적격기준이전에는 추정가격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억원미만은 시공평가를 하지 않았으나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7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일 이후에는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모든 공사에 시공평가를 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지금부터 평가방법에 대해서 말씀 드리겠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시공경험평가는 매우 간단하기는 하지만 조금 헷갈려 하는 분들이 많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공사규모에 따라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배수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1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배수이냐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0.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배수이냐  또는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이상이냐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미만이냐 차이지 큰 어려움은 없다고 생각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다음과 같이 실적인정기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이상 또는 실적인정기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미만에 따라 등급의 차이가 있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500040" y="4214880"/>
          <a:ext cx="5667480" cy="1047600"/>
        </p:xfrm>
        <a:graphic>
          <a:graphicData uri="http://schemas.openxmlformats.org/drawingml/2006/table">
            <a:tbl>
              <a:tblPr/>
              <a:tblGrid>
                <a:gridCol w="1490760"/>
                <a:gridCol w="1492200"/>
                <a:gridCol w="671400"/>
                <a:gridCol w="669960"/>
                <a:gridCol w="671400"/>
                <a:gridCol w="671760"/>
              </a:tblGrid>
              <a:tr h="21420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구    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평가비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실적인정기간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4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년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6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5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4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4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실적인정기간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4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년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5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4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3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3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점    수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5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4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3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3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428760" y="306000"/>
            <a:ext cx="7786440" cy="43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실적인정기간 평가방법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008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도는  일반적으로 관련협회에 신고된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간 실적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0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 06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 07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으로 평가를 하는데 귀사가 만약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008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도에 준공된 공사가 있을경우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준공된 실적도 포함시켜서 평가받을 수 있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예를 들어보면  가상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업체가 최근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도 실적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억이고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007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2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1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일 이후 준공된 실적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억이라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억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실적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+1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억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준공실적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=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억 으로 평가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받을 수 있다는 내용입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년미만 평가시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  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: 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관련협회에 신고된 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년실적 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(05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, 06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, 07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)+ 08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년 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1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월부터 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~ 08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년도 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12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월 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31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일까지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년이상 평가시  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: 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관련협회에 신고된 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년실적 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(05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, 06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, 07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)+ 07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년 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12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월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31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부터 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~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 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09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년 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5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월까지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(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일반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) 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또는 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6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월까지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(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전문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일반건설은 매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6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에 실적발표를 하고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전문건설은 매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7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에 실적발표를 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그럼으로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이상 평가시에는 관련협회에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008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 실적이 발표되기 이전공사까지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이상으로 평가를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009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도에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간실적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06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 07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 08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발표를 하면  또다시 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09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2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1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일까지 준공된 실적으로 평가하므로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미만으로 평가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그렇다면 현재 날짜가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2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일이라고 가정했을때 모든 업체가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미만으로 평가를 받고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일 이후에는 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이상으로 평가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28760" y="358920"/>
            <a:ext cx="77864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다시 처음으로 돌아와서 시공경험평가를 해보겠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당해공사 추정가격에 해당업종 평가비율을 곱한 금액 대비 최근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이상 당해공사와 동일한 평가대상 업종별 실적금액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발주기관의 관급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·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지급자재비는 제외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의 비율로 다음과 같이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수를 산정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현재기간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008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2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일이라고 가정했을때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007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2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1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일 이후  준공된 공사가 없을경우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미만으로 평가를 하고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만약 준공된 실적으로 평가받고자 하다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이상으로 평가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500040" y="1857240"/>
          <a:ext cx="5667480" cy="1047960"/>
        </p:xfrm>
        <a:graphic>
          <a:graphicData uri="http://schemas.openxmlformats.org/drawingml/2006/table">
            <a:tbl>
              <a:tblPr/>
              <a:tblGrid>
                <a:gridCol w="1490760"/>
                <a:gridCol w="1492200"/>
                <a:gridCol w="671400"/>
                <a:gridCol w="669960"/>
                <a:gridCol w="671400"/>
                <a:gridCol w="671760"/>
              </a:tblGrid>
              <a:tr h="21456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구    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평가비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실적인정기간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4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년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6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5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4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4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실적인정기간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4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년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5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4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3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3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점    수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5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4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3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3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9" name="TextBox 7"/>
          <p:cNvSpPr/>
          <p:nvPr/>
        </p:nvSpPr>
        <p:spPr>
          <a:xfrm>
            <a:off x="428760" y="2928960"/>
            <a:ext cx="8286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지자체에서는 시공경험평가는 추정가격기준으로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간 실적을 평가를 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밑에 금액은 어느 발주처에서 나온 입찰공사입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A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건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건축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는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008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2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일 현재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간 실적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80,000,00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을 가지고 있고 준공실적이 없을 경우 다음과 같이 평가를 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500040" y="3786120"/>
          <a:ext cx="3143160" cy="514440"/>
        </p:xfrm>
        <a:graphic>
          <a:graphicData uri="http://schemas.openxmlformats.org/drawingml/2006/table">
            <a:tbl>
              <a:tblPr/>
              <a:tblGrid>
                <a:gridCol w="1467000"/>
                <a:gridCol w="1676160"/>
              </a:tblGrid>
              <a:tr h="17136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예정금액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260,160,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추정가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a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245,600,0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a5"/>
                    </a:solidFill>
                  </a:tcPr>
                </a:tc>
              </a:tr>
              <a:tr h="17136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기초금액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260,160,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TextBox 10"/>
          <p:cNvSpPr/>
          <p:nvPr/>
        </p:nvSpPr>
        <p:spPr>
          <a:xfrm>
            <a:off x="428760" y="4357800"/>
            <a:ext cx="8429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A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건설은 준공실적이 없으므로 실적인정기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미만으로 평가를 받기 때문에 추정가격대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50%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이상만 가지고 있습니다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A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등급을 받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80,000,000(A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건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간실적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÷245,600,000(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추정가격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=0.73289*100=73.289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소숫점셋째자리에서 반올림하여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73.29%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가 나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위 표를 보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50%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이상이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을 주기 때문에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A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건설 시공경험 점수는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이 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물론 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A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등급이냐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B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에 따라 점수는 틀려지겠지요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!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만약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009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일이라고 가정했을때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B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건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건축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간 실적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30,000,00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이고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2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1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일이후  현재까지 준공된 실적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5,000,00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이라고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한다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B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건설은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이상으로 평가를 받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130,000,000+15,000,000)÷245,600,000=0.59039*100=59.039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소숫점 셋째자리에서 반올림하여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59.04%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이므로 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B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건설은 실적인정기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이상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으로 평가비율을 따져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50%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이상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B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등급이므로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을 받게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764352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2.</a:t>
            </a:r>
            <a:r>
              <a:rPr b="1" lang="ko-KR" sz="1400" spc="-1" strike="noStrike">
                <a:solidFill>
                  <a:srgbClr val="000000"/>
                </a:solidFill>
                <a:latin typeface="Georgia"/>
              </a:rPr>
              <a:t>경영상태평가 계산 방법</a:t>
            </a:r>
            <a:br>
              <a:rPr sz="4000"/>
            </a:b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28760" y="716400"/>
            <a:ext cx="77864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지금부터는 경영상태평가 방법에 대한 설명입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2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억원미만공사는 추정가격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10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억원미만인 공사의 경영상태 평가표에 의해 평가합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밑에 보이는 그림은 가상업체에 대한 경영상태를 미리 뽑아 보았습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계산방법은 매우 간단합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그냥 분자 분모를 나누어 업체평균을 다시 나누어주기만 하면 됩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&lt;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표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&gt;                                                                      *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업체평균은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007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도 일반건설경영상태 평균비율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직사각형 4"/>
          <p:cNvSpPr/>
          <p:nvPr/>
        </p:nvSpPr>
        <p:spPr>
          <a:xfrm>
            <a:off x="500040" y="2500200"/>
            <a:ext cx="7000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●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부채비율 평균대비 구하는 방법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314,081(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부채총계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)÷3,245,780(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자기자본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)=0.096576....×100=9.67659...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나온 값에 소수점 셋 째자리에서 절사합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9.67÷172.23 (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업체평균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)=0.0561458×100=5.614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나온 값에서 소숫점 셋 째자리에서 반올림합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5.614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에서 셋째자리가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이기때문에  반올림이 안되므로 </a:t>
            </a:r>
            <a:r>
              <a:rPr b="0" lang="en-US" sz="900" spc="-1" strike="noStrike">
                <a:solidFill>
                  <a:srgbClr val="ff0000"/>
                </a:solidFill>
                <a:latin typeface="Georgia"/>
              </a:rPr>
              <a:t>5.61%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가 평균대비가 된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아래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&lt;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표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2&gt;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에서 보면 부채비율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100%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미만이므로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5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점을  받습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이런 방법으로 부채비율이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100%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미만이냐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130%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미만이냐에 따라서 점수가 부여됩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만약 계산을 하여 평균대비가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160%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미만이 나 올 경우는 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점을 받습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●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유동비율 평균대비 구하는 방법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부채비율 구하는 방법과 동일합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5,374,770(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유동자산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)÷136,181(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유동부채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)=39.46784...×100=3,946.78405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나온 값에 소수점 셋 째자리에서 절사합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3,946.78÷138.14(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업체평균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)=28.57087×100=2857.087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나온 값에서 소숫점 셋 째자리에서 반올림합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2857.087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에서 셋째자리가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7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이기 때문에 반올림이 되므로 </a:t>
            </a:r>
            <a:r>
              <a:rPr b="0" lang="en-US" sz="900" spc="-1" strike="noStrike">
                <a:solidFill>
                  <a:srgbClr val="ff0000"/>
                </a:solidFill>
                <a:latin typeface="Georgia"/>
              </a:rPr>
              <a:t>2857.09%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이가 계산 됩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&lt;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표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2&gt;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에서 유동비율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100%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이상이면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5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점을 받으므로 이 업체는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2191.08 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즉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100%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이상이기 때문에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5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점을 받을 수 있습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※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업체평균은 공종별로 비율이 틀림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업종별 가중 평가 비율표를 참고하셔서 해당 공종평균비율을 입력하여 계산하시기 바랍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500040" y="1500120"/>
          <a:ext cx="5943600" cy="943200"/>
        </p:xfrm>
        <a:graphic>
          <a:graphicData uri="http://schemas.openxmlformats.org/drawingml/2006/table">
            <a:tbl>
              <a:tblPr/>
              <a:tblGrid>
                <a:gridCol w="743040"/>
                <a:gridCol w="743040"/>
                <a:gridCol w="742680"/>
                <a:gridCol w="743040"/>
                <a:gridCol w="743040"/>
                <a:gridCol w="743040"/>
                <a:gridCol w="742680"/>
                <a:gridCol w="743040"/>
              </a:tblGrid>
              <a:tr h="189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심사항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평가요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평가자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A/B(%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업체평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평균대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평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부채비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부채총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314,08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9.6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172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5.6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5.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자기자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3,245,7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90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유동비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유동자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5,374,7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3946.7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138.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2857.0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5.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유동부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136,18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7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9" name=""/>
          <p:cNvGraphicFramePr/>
          <p:nvPr/>
        </p:nvGraphicFramePr>
        <p:xfrm>
          <a:off x="285840" y="1539720"/>
          <a:ext cx="7429320" cy="2961000"/>
        </p:xfrm>
        <a:graphic>
          <a:graphicData uri="http://schemas.openxmlformats.org/drawingml/2006/table">
            <a:tbl>
              <a:tblPr/>
              <a:tblGrid>
                <a:gridCol w="1693800"/>
                <a:gridCol w="2521080"/>
                <a:gridCol w="928440"/>
                <a:gridCol w="1071720"/>
                <a:gridCol w="1214280"/>
              </a:tblGrid>
              <a:tr h="260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심 사 항 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평 가 요 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배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등   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평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328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가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.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최근년도 부채비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   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타인자본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/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자기자본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1)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업종별 평균 부채비율에 대한 해당업체의 비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휴먼명조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10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휴먼명조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B. 13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C. 16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D. 19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E. 19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5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4.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4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3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3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.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최근년도 유동비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   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유동자산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/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유동부채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2)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업종별 평균 유동비율에 대한 해당업체 비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휴먼명조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10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휴먼명조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B.  9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C.  8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D.  7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E.  7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5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4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4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3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3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0" name="TextBox 4"/>
          <p:cNvSpPr/>
          <p:nvPr/>
        </p:nvSpPr>
        <p:spPr>
          <a:xfrm>
            <a:off x="285840" y="285840"/>
            <a:ext cx="742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부채비율과 유동비율은 모든 공사의 기초 경영상태 평가입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&lt;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표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&gt;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직사각형 5"/>
          <p:cNvSpPr/>
          <p:nvPr/>
        </p:nvSpPr>
        <p:spPr>
          <a:xfrm>
            <a:off x="285840" y="4786200"/>
            <a:ext cx="7429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앞으로 부족한 부분은 교육하면서 보완해 나 갈 것이며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공사규모별 적격심사 또는 기본적으로 알아야 할 부분에 대해서 설명 해드리겠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다음은 시공경험부분으로 공사규모별로 한 업체가 실적이 얼마나 갖고 있느냐에 따라점수가 부여되는 부분에 대해서 설명해 드리겠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764352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3.</a:t>
            </a:r>
            <a:r>
              <a:rPr b="1" lang="ko-KR" sz="1400" spc="-1" strike="noStrike">
                <a:solidFill>
                  <a:srgbClr val="000000"/>
                </a:solidFill>
                <a:latin typeface="Georgia"/>
              </a:rPr>
              <a:t>접근성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(+0.5</a:t>
            </a:r>
            <a:r>
              <a:rPr b="1" lang="ko-KR" sz="1400" spc="-1" strike="noStrike">
                <a:solidFill>
                  <a:srgbClr val="000000"/>
                </a:solidFill>
                <a:latin typeface="Georgia"/>
              </a:rPr>
              <a:t>점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)</a:t>
            </a:r>
            <a:br>
              <a:rPr sz="4000"/>
            </a:b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Rectangle 2"/>
          <p:cNvSpPr/>
          <p:nvPr/>
        </p:nvSpPr>
        <p:spPr>
          <a:xfrm>
            <a:off x="428760" y="868680"/>
            <a:ext cx="7786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억원미만 공사에서는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0.5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점을 추가로 받을 수 있습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귀삭 시공에서 점수가 빠진다거나 경영상태가 부족하여 점수가 빠진다거나 할때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인접지역에 소재되어 있다면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0.5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점을 추가로 보충하여 입찰가격을 맞출 수 있습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○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전기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‧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정보통신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‧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소방공사는 평가제외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(0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점적용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  ○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입찰공고일 전일 현재 당해공사 현장을 관할하는 시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‧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군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광역시내 군 또는 자치구는 평가에서 제외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)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지역 및 인접한 시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‧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군지역에 주된 사무소가 소재하는 업체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특별시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‧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광역시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‧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도 발주공사 포함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)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는 수행능력점수에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+0.5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점을 가산하여 평가한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  ○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입찰공고일 전일 이후 입찰참가등록마감일 이전에 당해공사 현장을 관할하는 시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‧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군에서 새로이 설립된 업체의 경우는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+0.5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점을 가산하여 평가한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  ○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입찰공고일 전일을 기준으로 당해공사 현장을 관할하는 시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‧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군 및 인접 시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‧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군내에 관련 업종의 등록소지자가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10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인미만인 경우는 평가제외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(0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점 적용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  ○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가산점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(+0.5)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은 당해공사수행능력 배점한도내에서 적용하며 초과부분은 적용하지 않는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  ○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입찰공고일 전일부터 계약체결일까지 당해지역에 소재하지 아니한 경우 접근성 점수를 부여하지 아니한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 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※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인접시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·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군이란 공사현장을 관할하는 시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·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군지역과 행정구역상 경계선이 접하는 시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·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군지역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단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해상인접인 경우 인접시군으로 보지 않는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)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26" name="그림 7" descr="ScreenHunter_01 Nov. 27 08.58.gif"/>
          <p:cNvPicPr/>
          <p:nvPr/>
        </p:nvPicPr>
        <p:blipFill>
          <a:blip r:embed="rId1"/>
          <a:stretch/>
        </p:blipFill>
        <p:spPr>
          <a:xfrm>
            <a:off x="571680" y="3500280"/>
            <a:ext cx="2643120" cy="1714680"/>
          </a:xfrm>
          <a:prstGeom prst="rect">
            <a:avLst/>
          </a:prstGeom>
          <a:ln w="0">
            <a:noFill/>
          </a:ln>
        </p:spPr>
      </p:pic>
      <p:sp>
        <p:nvSpPr>
          <p:cNvPr id="527" name="Rectangle 2"/>
          <p:cNvSpPr/>
          <p:nvPr/>
        </p:nvSpPr>
        <p:spPr>
          <a:xfrm>
            <a:off x="428760" y="523872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만약 귀사가  충주시에  소재 되어 있는 업체라면 어느 지역에서 발주하는 공사까지 접근성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0.5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점을  추가로 받을 수 있을까요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지도상에 보면 제천시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음성군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괴산군 지역이 경계선을 두고 있습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바로 이 지역이 접근지역으로 보시면 됩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청주시에 소재 되어 있다면 경계선이 청원군밖에 안되어 있습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그래서 청주지역 소재업체는 청원군에서 발주하는 공사 까지 접근성을 인정 받습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물론 청주시에서 발주하는 공사도 접근성 인정을 받을 수 있습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마지막으로 음성군에 소재되어 있다면 충주시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괴산군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진천군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증평군 까지 인접지역이 이므로 접근성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0.5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점을 받을 수 있습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2"/>
          <p:cNvSpPr/>
          <p:nvPr/>
        </p:nvSpPr>
        <p:spPr>
          <a:xfrm>
            <a:off x="428760" y="359280"/>
            <a:ext cx="7786440" cy="45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위 내용들을 종합해 평가를 해보겠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HY견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수행능력 평가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1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HY견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.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시공경험평가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평가비율대로 점수를 그대로 평가받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미만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50%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이상이 넘으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을 받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.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경영상태평가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 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&lt;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별표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-4&gt;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의 경영상태평가방법에 의한 평가점수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×5/10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귀사가 경영상태평가점수를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을 받았다면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0 ×5/10=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0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×5=50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50/5=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 을 받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귀사가 경영상태평가점수를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9.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을 받았다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9.5×5/10=4.7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 받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.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접근성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0.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귀사가 인접지역이라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0.2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을 받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위 점수를 합산하면 시공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경영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접근성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0.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 총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을 받을 수 있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귀사가 시공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 경영상태가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.7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 이고 접근성을 인정받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0.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을 포함해서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0.2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을 받을 수 있으면 수행점수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을 초과할 수 없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억원미만 공사는 입찰가격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8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 수행점수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을 포함해서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9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을 받으면 적격통과 이므로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다음 입찰가격 산식에 대입해서 계산해보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87.745%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투찰율이 계산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자세한 내용은 만점투찰율 계산방법을 참고하시기 바랍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428760" y="5500800"/>
          <a:ext cx="5929200" cy="500040"/>
        </p:xfrm>
        <a:graphic>
          <a:graphicData uri="http://schemas.openxmlformats.org/drawingml/2006/table">
            <a:tbl>
              <a:tblPr/>
              <a:tblGrid>
                <a:gridCol w="949320"/>
                <a:gridCol w="99720"/>
                <a:gridCol w="220680"/>
                <a:gridCol w="971640"/>
                <a:gridCol w="209520"/>
                <a:gridCol w="1085760"/>
                <a:gridCol w="801720"/>
                <a:gridCol w="1590840"/>
              </a:tblGrid>
              <a:tr h="250560"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90-20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(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입찰가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)×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＝ 입찰가격점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예정가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01:55:51Z</dcterms:created>
  <dc:creator>차승호</dc:creator>
  <dc:description/>
  <dc:language>en-US</dc:language>
  <cp:lastModifiedBy>정경인</cp:lastModifiedBy>
  <dcterms:modified xsi:type="dcterms:W3CDTF">2009-05-20T00:48:36Z</dcterms:modified>
  <cp:revision>73</cp:revision>
  <dc:subject/>
  <dc:title>만점투찰율구하는 방법과 입찰가격점수 구하는 방법  </dc:title>
</cp:coreProperties>
</file>