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B1C-B098-45B2-A17D-27B2F0F9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FD9-40DD-4A92-B549-71A155ED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F3EF-6EB2-45F3-A444-97D8016D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7041-4B20-4B40-A855-0B721BCE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F6A3-42DF-4892-A2BF-419C0A11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D962-5507-49D5-A50E-654A4E55C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031D-4AAF-4A43-8178-2CCF3A6B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5BC8-B3B8-4805-8D94-5CBD8DA2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BDBA-89E5-4F89-B98D-A28FE371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E45C-D5FC-4C6D-B660-7AED500D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DC3C-D7E8-4B74-92ED-35278624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2E2B-97AF-4C96-B666-F6D51652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EC74-72D8-449D-8030-A38D3B1D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1C43-304E-4F40-92F2-518284C1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AC34-5721-4D91-BA09-4A72019A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69AA-D54A-4CB2-8ECD-C92FD894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5A98-AD5B-4417-BDF6-18FCB66F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0FAE-2E4F-4C46-A14C-A9B5A591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8062B-9FDC-4ABC-B41D-5DE9C19B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D18E1-DE9B-4764-92D3-EDFD1157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C4BF-E735-4645-AB51-045FC355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4CD4-FA1E-4717-9FB2-22E442E4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4F7-2706-41C6-9919-9924E793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2539E-3780-40FD-9EF2-1419645A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ED530-C06B-4497-8319-C62A092B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C81D-C5B7-40B2-B439-A4B21EC1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E8DA9-B5F7-4570-8269-DE94B581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BD01-4657-4098-AB79-845D0FC8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CEE33-4D85-4FCC-AF80-34F084C6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E0458-4B7C-4BC9-A6C5-8AAD2D64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762B8-455D-46C5-B9D8-C525FEF6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4ED1-FD2D-41B9-A5E3-D224D1D7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7ACD1-4830-4635-AED1-6C962B0F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F09-E4B5-4FA6-A858-9182D4CF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AD796-1FA6-4465-81F6-C9B9297C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B62A3-B89D-40B3-BBFD-EF17EA7E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9342-54C4-4D2E-9A5C-20E330B7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16862-FA25-406B-863F-3EB7A164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DB3CA-BC09-4D90-AC0A-64DD335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59FB-4F54-4489-9945-85762FB9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A020-721F-47B9-A408-AF47D430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15D0B-DD12-4DD8-9A3F-42953B44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5F385-24E8-456D-A137-D6C2C6E7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52821-15B3-44E1-9C4A-0FE50CF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CC84-1B46-4EBB-81C2-D2E2B63A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B013-21DA-4835-B7EF-98B74ADA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43CED-A536-42E5-BED1-B457968C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253FC-4854-40E9-B003-625497B0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C77F6-13EA-4BF1-B4A8-707E8D34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01B67-93CD-4ADB-BA7F-DABC3510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3B36E-94E2-421E-8094-3982E21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C5CC-5DF3-4CD8-BEAE-8579BC83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56BE7-D230-443B-AC3A-74AF4877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B5F18-264F-4FCD-AC6F-05A49268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3068A-366F-4357-AD53-088F3E4A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4C61-1677-457C-9200-A2C2A29A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1CA2C-1F2A-4A72-945F-7372FBCB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199-8D4F-4524-B82B-FC755572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501-95CE-464A-8489-7323EF57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D56-2BB0-48F8-A9F3-65DF0F91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모서리가 둥근 직사각형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grpSp>
        <p:nvGrpSpPr>
          <p:cNvPr id="1" name="모서리가 둥근 직사각형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모서리가 둥근 직사각형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BDA1-8617-4C8E-9FA9-D636B8AC667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모서리가 둥근 직사각형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grpSp>
        <p:nvGrpSpPr>
          <p:cNvPr id="46" name="모서리가 둥근 직사각형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모서리가 둥근 직사각형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5EFC-B3D3-44D5-828D-AEFC95D10FF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모서리가 둥근 직사각형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grpSp>
        <p:nvGrpSpPr>
          <p:cNvPr id="91" name="모서리가 둥근 직사각형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모서리가 둥근 직사각형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HY견고딕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DC3C-FF0C-4BD3-BB28-878486EC316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모서리가 둥근 직사각형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E754-7D14-4343-B220-910841C67A3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모서리가 둥근 직사각형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8" name="한쪽 모서리가 둥근 사각형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49EB-ACC3-46D7-9ABD-A939A484CE37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2371680"/>
            <a:ext cx="9117000" cy="147024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lIns="450000" rIns="900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8d3e"/>
                </a:solidFill>
                <a:latin typeface="Verdana"/>
              </a:rPr>
              <a:t>원 클릭 분석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슬라이드 번호 개체 틀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5720-7056-4682-A4A1-CDEB88A7112C}" type="slidenum">
              <a:rPr b="0" lang="en-US" sz="1000" spc="-1" strike="noStrike">
                <a:solidFill>
                  <a:srgbClr val="a7a399"/>
                </a:solidFill>
                <a:latin typeface="HY견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0" name="직사각형 1"/>
          <p:cNvSpPr/>
          <p:nvPr/>
        </p:nvSpPr>
        <p:spPr>
          <a:xfrm>
            <a:off x="285840" y="500040"/>
            <a:ext cx="8643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공고내용보기에서의 원클릭분석이나 간단예가조합을 누르시면 다음과 같은 기능들을 통하여 예가조합을 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①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공고보기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세부적 공고내용을 확인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②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발주처예가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조달청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행자부예가 및 균등산출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균등난수로 복수예가를 산출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③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복수예비가격에서 고객님께서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개의 예가를 선택하신 경우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④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번과 같이 선택번호의   투찰가와 사정율을 확인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⑤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혹시 고객님께서 생각해 두신 사정율이 있으시다면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5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번과같이 직접 입력하셔도 투찰가를 확인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⑥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예가분포도를 보시면 최근공사건들에 대한 예가분포 및 낙찰지수를 그래프로 확인할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⑦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투찰하기 버튼을 누르면 나라장터의 투찰하기로 바로 연결이 되며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발주처바로가기를 누르며 발주처홈페이지를 통하여 확인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또한 고객님께서 조합하신 예가들을 출력도 가능하신데 출력하기 버튼을 누르시면 웹상에서 출력이 가능하시고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xls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저장을 누르시면 엑셀파일로 변환이 됩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428760" y="13032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클릭분석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가분석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62" name="그림 5" descr="원클릭예가조합.jpg"/>
          <p:cNvPicPr/>
          <p:nvPr/>
        </p:nvPicPr>
        <p:blipFill>
          <a:blip r:embed="rId1"/>
          <a:stretch/>
        </p:blipFill>
        <p:spPr>
          <a:xfrm>
            <a:off x="500040" y="1838160"/>
            <a:ext cx="75312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슬라이드 번호 개체 틀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4021-9B2E-43BD-B033-3E4AE62A6151}" type="slidenum">
              <a:rPr b="0" lang="en-US" sz="1000" spc="-1" strike="noStrike">
                <a:solidFill>
                  <a:srgbClr val="a7a399"/>
                </a:solidFill>
                <a:latin typeface="HY견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64" name="그림 2" descr="발주처예가.jpg"/>
          <p:cNvPicPr/>
          <p:nvPr/>
        </p:nvPicPr>
        <p:blipFill>
          <a:blip r:embed="rId1"/>
          <a:stretch/>
        </p:blipFill>
        <p:spPr>
          <a:xfrm>
            <a:off x="928800" y="1500120"/>
            <a:ext cx="6572160" cy="47372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"/>
          <p:cNvSpPr/>
          <p:nvPr/>
        </p:nvSpPr>
        <p:spPr>
          <a:xfrm>
            <a:off x="1970280" y="571680"/>
            <a:ext cx="4363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예가조합에서 발주처에가를 클릭하시면 아래와같은 화면이 나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날짜를 검색하거나 규모를 선택하여 검색하시면 공사가 나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검색된 공사중 분석하고자 하는 공사를 선택하시면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전체평균및 선택값평균이 계산됩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계산된 평균예가를 선택평균적용을 하거나 전체평균 적용을 누르시면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예가를 적용시켜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1365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예가를 뽑을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슬라이드 번호 개체 틀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4BFD-8B4E-4731-9D1D-4A2FD9435046}" type="slidenum">
              <a:rPr b="0" lang="en-US" sz="1000" spc="-1" strike="noStrike">
                <a:solidFill>
                  <a:srgbClr val="a7a399"/>
                </a:solidFill>
                <a:latin typeface="HY견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67" name="직사각형 1"/>
          <p:cNvSpPr/>
          <p:nvPr/>
        </p:nvSpPr>
        <p:spPr>
          <a:xfrm>
            <a:off x="428760" y="285840"/>
            <a:ext cx="82152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가조합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주처분석 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최근 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개월을 기준으로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기간설정 가능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역 및 공종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발주처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공사규모로 검색하실 수 있습니다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래프를 통하여 공사리스트와 예정가격 사정율 분포그래프를 확인하실 수 있으며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공사리스트를 기준으로 한 사정율 변화그래프 및 예상 사정율도 예상해보실 수 있습니다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돋움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막대를 움직이면 다음 예상 그래프를 만들어줍니다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68" name="그림 4" descr="발주처분석.jpg"/>
          <p:cNvPicPr/>
          <p:nvPr/>
        </p:nvPicPr>
        <p:blipFill>
          <a:blip r:embed="rId1"/>
          <a:stretch/>
        </p:blipFill>
        <p:spPr>
          <a:xfrm>
            <a:off x="785880" y="1658880"/>
            <a:ext cx="70135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슬라이드 번호 개체 틀 1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CBB-7FA4-4103-8C7E-B0991FA980BA}" type="slidenum">
              <a:rPr b="0" lang="en-US" sz="1000" spc="-1" strike="noStrike">
                <a:solidFill>
                  <a:srgbClr val="a7a399"/>
                </a:solidFill>
                <a:latin typeface="HY견고딕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70" name="직사각형 1"/>
          <p:cNvSpPr/>
          <p:nvPr/>
        </p:nvSpPr>
        <p:spPr>
          <a:xfrm>
            <a:off x="357120" y="652320"/>
            <a:ext cx="8786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최근공사리스트들에서의 예가 및 선택되어진 예가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들을 보실 수가 있으며 이 예가들을 통하여 복수예비가격에 적용하여 보실 수가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①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최근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3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개월을 기준으로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기간설정 가능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)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지역 및 공종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발주처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공사규모로 검색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②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통계랜덤선택은 추첨예가를 최우선으로 적용하는 예가산정방식이고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랜덤선택은 모든 예가들을 기준으로 복수예비가격을 적용하는 방법이며 나온 예가들을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적용버튼을 누름으로서 복수예비가격에 적용시킬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③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그밖에 최대값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최소값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평균값으로도 복수예비가격에 적용이 가능하며 고객님께서 직접 복수예비가격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15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개를 고르시는 방법도 가능합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④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적용된 예가들은 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번의 복수예비가격에 적용되며 여기서 고객님께서 번호를 선택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⑤ </a:t>
            </a:r>
            <a:r>
              <a:rPr b="0" lang="ko-KR" sz="900" spc="-1" strike="noStrike">
                <a:solidFill>
                  <a:srgbClr val="000000"/>
                </a:solidFill>
                <a:latin typeface="돋움"/>
                <a:ea typeface="돋움"/>
              </a:rPr>
              <a:t>공사리스트의 예가들의 평균값은 그래프를 통하여도 확인하실 수 있습니다</a:t>
            </a:r>
            <a:r>
              <a:rPr b="0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HY견고딕"/>
            </a:endParaRPr>
          </a:p>
        </p:txBody>
      </p:sp>
      <p:sp>
        <p:nvSpPr>
          <p:cNvPr id="271" name="TextBox 4"/>
          <p:cNvSpPr/>
          <p:nvPr/>
        </p:nvSpPr>
        <p:spPr>
          <a:xfrm>
            <a:off x="357120" y="2858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클릭분석</a:t>
            </a: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1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가분석</a:t>
            </a:r>
            <a:endParaRPr b="0" lang="en-US" sz="1800" spc="-1" strike="noStrike">
              <a:solidFill>
                <a:srgbClr val="000000"/>
              </a:solidFill>
              <a:latin typeface="HY견고딕"/>
            </a:endParaRPr>
          </a:p>
        </p:txBody>
      </p:sp>
      <p:pic>
        <p:nvPicPr>
          <p:cNvPr id="272" name="그림 5" descr="원클릭예가분석.jpg"/>
          <p:cNvPicPr/>
          <p:nvPr/>
        </p:nvPicPr>
        <p:blipFill>
          <a:blip r:embed="rId1"/>
          <a:stretch/>
        </p:blipFill>
        <p:spPr>
          <a:xfrm>
            <a:off x="509760" y="1785960"/>
            <a:ext cx="699120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6:17:43Z</dcterms:created>
  <dc:creator>bidsys</dc:creator>
  <dc:description/>
  <dc:language>en-US</dc:language>
  <cp:lastModifiedBy>차승호</cp:lastModifiedBy>
  <dcterms:modified xsi:type="dcterms:W3CDTF">2009-03-25T04:25:56Z</dcterms:modified>
  <cp:revision>51</cp:revision>
  <dc:subject/>
  <dc:title>PTLINE Template</dc:title>
</cp:coreProperties>
</file>